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20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2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8F88-A7DB-4958-B490-48063DE7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8C9-1957-482A-B79D-0ED124D1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C635-05BE-4D14-841A-92A138584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F6C-1BF4-49A6-9B97-E2E323B9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BEC7-401A-4973-9795-8AAF5A8D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EA80-453B-488E-964D-897803B9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B1B1-3ADB-4222-A108-8C30432F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26B0-A2E7-4CCC-B234-9A2E157B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D94F-AE22-4CC4-9ACA-2D1D6852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6121-E079-4E42-A389-3BB618EC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7DFA-F509-469E-BEC4-76E2FD03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26E-EDD7-4851-9EAC-BEDAA159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D364-347F-4AD3-AEF3-577A6F2B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FD30-8B2B-47D7-A362-6133F208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C4C8-B9BF-454F-882B-484D71D8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F327-9EFF-4015-99DE-9ACE9491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1742-EA69-4CC7-924D-D95FB919D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F06A-5E99-4065-9989-344D2586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360-6528-452D-8CD9-D162C7BEC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04AF-1066-4DC6-BE2E-624409DA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77A-8856-4421-AF07-75FEE1E4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E8E-05E0-4DC3-AF56-299D9603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DA40-FEFC-4A89-90D7-A2EF3AD6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D536-2AC8-4003-85E9-03745BF7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6DA4-D54A-4465-8AF0-A160BAE15D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626A-CB1C-41EE-9896-5E9006C5219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0" spc="-1" strike="noStrike">
                <a:solidFill>
                  <a:srgbClr val="ffffcc"/>
                </a:solidFill>
                <a:latin typeface="Times New Roman"/>
              </a:rPr>
              <a:t>ә</a:t>
            </a:r>
            <a:endParaRPr b="1" lang="en-US" sz="1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2" descr="C:\Documents and Settings\Коробчаны\Рабочий стол\Фонзарядка\папа.jpg"/>
          <p:cNvPicPr/>
          <p:nvPr/>
        </p:nvPicPr>
        <p:blipFill>
          <a:blip r:embed="rId1"/>
          <a:stretch/>
        </p:blipFill>
        <p:spPr>
          <a:xfrm>
            <a:off x="357120" y="357120"/>
            <a:ext cx="3571920" cy="2786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Коробчаны\Рабочий стол\Фонзарядка\бабуся.gif"/>
          <p:cNvPicPr/>
          <p:nvPr/>
        </p:nvPicPr>
        <p:blipFill>
          <a:blip r:embed="rId2"/>
          <a:stretch/>
        </p:blipFill>
        <p:spPr>
          <a:xfrm>
            <a:off x="5143680" y="3643200"/>
            <a:ext cx="3643200" cy="2943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C:\Documents and Settings\Коробчаны\Рабочий стол\Фонзарядка\петух.jpg"/>
          <p:cNvPicPr/>
          <p:nvPr/>
        </p:nvPicPr>
        <p:blipFill>
          <a:blip r:embed="rId3"/>
          <a:stretch/>
        </p:blipFill>
        <p:spPr>
          <a:xfrm>
            <a:off x="5143680" y="357120"/>
            <a:ext cx="3643200" cy="2890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:\Documents and Settings\Коробчаны\Рабочий стол\Фонзарядка\тетрадь.jpg"/>
          <p:cNvPicPr/>
          <p:nvPr/>
        </p:nvPicPr>
        <p:blipFill>
          <a:blip r:embed="rId4"/>
          <a:stretch/>
        </p:blipFill>
        <p:spPr>
          <a:xfrm>
            <a:off x="428760" y="3643200"/>
            <a:ext cx="3600360" cy="3000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14308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0" spc="-1" strike="noStrike">
                <a:solidFill>
                  <a:srgbClr val="ffffcc"/>
                </a:solidFill>
                <a:latin typeface="Times New Roman"/>
              </a:rPr>
              <a:t>Ө</a:t>
            </a:r>
            <a:br>
              <a:rPr sz="12000"/>
            </a:br>
            <a:endParaRPr b="1" lang="en-US" sz="1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7" name="Picture 2" descr="C:\Documents and Settings\Коробчаны\Рабочий стол\Фонзарядка\паук.jpg"/>
          <p:cNvPicPr/>
          <p:nvPr/>
        </p:nvPicPr>
        <p:blipFill>
          <a:blip r:embed="rId1"/>
          <a:stretch/>
        </p:blipFill>
        <p:spPr>
          <a:xfrm>
            <a:off x="500040" y="285840"/>
            <a:ext cx="3357720" cy="2571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Documents and Settings\Коробчаны\Рабочий стол\Фонзарядка\глаз.jpg"/>
          <p:cNvPicPr/>
          <p:nvPr/>
        </p:nvPicPr>
        <p:blipFill>
          <a:blip r:embed="rId2"/>
          <a:stretch/>
        </p:blipFill>
        <p:spPr>
          <a:xfrm>
            <a:off x="5143680" y="3643200"/>
            <a:ext cx="3581280" cy="2643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:\Documents and Settings\Коробчаны\Рабочий стол\Фонзарядка\абрикос.jpg"/>
          <p:cNvPicPr/>
          <p:nvPr/>
        </p:nvPicPr>
        <p:blipFill>
          <a:blip r:embed="rId3"/>
          <a:stretch/>
        </p:blipFill>
        <p:spPr>
          <a:xfrm>
            <a:off x="5214960" y="214200"/>
            <a:ext cx="3500280" cy="2786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C:\Documents and Settings\Коробчаны\Рабочий стол\Фонзарядка\ластик.jpg"/>
          <p:cNvPicPr/>
          <p:nvPr/>
        </p:nvPicPr>
        <p:blipFill>
          <a:blip r:embed="rId4"/>
          <a:stretch/>
        </p:blipFill>
        <p:spPr>
          <a:xfrm>
            <a:off x="500040" y="3571920"/>
            <a:ext cx="3357720" cy="271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1476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0" spc="-1" strike="noStrike">
                <a:solidFill>
                  <a:srgbClr val="ffffcc"/>
                </a:solidFill>
                <a:latin typeface="Times New Roman"/>
              </a:rPr>
              <a:t>І</a:t>
            </a:r>
            <a:br>
              <a:rPr sz="12000"/>
            </a:br>
            <a:endParaRPr b="1" lang="en-US" sz="1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Picture 2" descr="C:\Documents and Settings\Коробчаны\Рабочий стол\Фонзарядка\ёж.jpg"/>
          <p:cNvPicPr/>
          <p:nvPr/>
        </p:nvPicPr>
        <p:blipFill>
          <a:blip r:embed="rId1"/>
          <a:stretch/>
        </p:blipFill>
        <p:spPr>
          <a:xfrm>
            <a:off x="428760" y="357120"/>
            <a:ext cx="3643200" cy="3000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Documents and Settings\Коробчаны\Рабочий стол\Фонзарядка\книга.jpg"/>
          <p:cNvPicPr/>
          <p:nvPr/>
        </p:nvPicPr>
        <p:blipFill>
          <a:blip r:embed="rId2"/>
          <a:stretch/>
        </p:blipFill>
        <p:spPr>
          <a:xfrm>
            <a:off x="5143680" y="357120"/>
            <a:ext cx="3571560" cy="2971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C:\Documents and Settings\Коробчаны\Рабочий стол\Фонзарядка\сапоги.jpg"/>
          <p:cNvPicPr/>
          <p:nvPr/>
        </p:nvPicPr>
        <p:blipFill>
          <a:blip r:embed="rId3"/>
          <a:stretch/>
        </p:blipFill>
        <p:spPr>
          <a:xfrm>
            <a:off x="500040" y="3786120"/>
            <a:ext cx="3571920" cy="2714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Documents and Settings\Коробчаны\Рабочий стол\Фонзарядка\8ног.jpg"/>
          <p:cNvPicPr/>
          <p:nvPr/>
        </p:nvPicPr>
        <p:blipFill>
          <a:blip r:embed="rId4"/>
          <a:stretch/>
        </p:blipFill>
        <p:spPr>
          <a:xfrm>
            <a:off x="5143680" y="3786120"/>
            <a:ext cx="3571560" cy="271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0" spc="-1" strike="noStrike">
                <a:solidFill>
                  <a:srgbClr val="ffffcc"/>
                </a:solidFill>
                <a:latin typeface="Times New Roman"/>
              </a:rPr>
              <a:t>ү</a:t>
            </a:r>
            <a:endParaRPr b="1" lang="en-US" sz="1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2" descr="C:\Documents and Settings\Коробчаны\Рабочий стол\Фонзарядка\цветок.jpg"/>
          <p:cNvPicPr/>
          <p:nvPr/>
        </p:nvPicPr>
        <p:blipFill>
          <a:blip r:embed="rId1"/>
          <a:stretch/>
        </p:blipFill>
        <p:spPr>
          <a:xfrm>
            <a:off x="357120" y="357120"/>
            <a:ext cx="3714840" cy="3000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:\Documents and Settings\Коробчаны\Рабочий стол\Фонзарядка\три.jpg"/>
          <p:cNvPicPr/>
          <p:nvPr/>
        </p:nvPicPr>
        <p:blipFill>
          <a:blip r:embed="rId2"/>
          <a:stretch/>
        </p:blipFill>
        <p:spPr>
          <a:xfrm>
            <a:off x="5072040" y="3714840"/>
            <a:ext cx="364320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C:\Documents and Settings\Коробчаны\Рабочий стол\Фонзарядка\дом.jpg"/>
          <p:cNvPicPr/>
          <p:nvPr/>
        </p:nvPicPr>
        <p:blipFill>
          <a:blip r:embed="rId3"/>
          <a:stretch/>
        </p:blipFill>
        <p:spPr>
          <a:xfrm>
            <a:off x="5072040" y="357120"/>
            <a:ext cx="3714840" cy="309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Documents and Settings\Коробчаны\Рабочий стол\Фонзарядка\лиса.jpg"/>
          <p:cNvPicPr/>
          <p:nvPr/>
        </p:nvPicPr>
        <p:blipFill>
          <a:blip r:embed="rId4"/>
          <a:stretch/>
        </p:blipFill>
        <p:spPr>
          <a:xfrm>
            <a:off x="428760" y="3786120"/>
            <a:ext cx="3643200" cy="2773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0" spc="-1" strike="noStrike">
                <a:solidFill>
                  <a:srgbClr val="ffffcc"/>
                </a:solidFill>
                <a:latin typeface="Times New Roman"/>
              </a:rPr>
              <a:t>ұ</a:t>
            </a:r>
            <a:endParaRPr b="1" lang="en-US" sz="1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2" name="Picture 2" descr="C:\Documents and Settings\Коробчаны\Рабочий стол\Фонзарядка\океанариум.jpg"/>
          <p:cNvPicPr/>
          <p:nvPr/>
        </p:nvPicPr>
        <p:blipFill>
          <a:blip r:embed="rId1"/>
          <a:stretch/>
        </p:blipFill>
        <p:spPr>
          <a:xfrm>
            <a:off x="428760" y="357120"/>
            <a:ext cx="3500280" cy="2857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Коробчаны\Рабочий стол\Фонзарядка\груша.jpg"/>
          <p:cNvPicPr/>
          <p:nvPr/>
        </p:nvPicPr>
        <p:blipFill>
          <a:blip r:embed="rId2"/>
          <a:stretch/>
        </p:blipFill>
        <p:spPr>
          <a:xfrm>
            <a:off x="5214960" y="357120"/>
            <a:ext cx="3500280" cy="2928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C:\Documents and Settings\Коробчаны\Рабочий стол\Фонзарядка\нос.jpg"/>
          <p:cNvPicPr/>
          <p:nvPr/>
        </p:nvPicPr>
        <p:blipFill>
          <a:blip r:embed="rId3"/>
          <a:stretch/>
        </p:blipFill>
        <p:spPr>
          <a:xfrm>
            <a:off x="5143680" y="3857760"/>
            <a:ext cx="3689280" cy="264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C:\Documents and Settings\Коробчаны\Рабочий стол\Фонзарядка\гнездо.jpg"/>
          <p:cNvPicPr/>
          <p:nvPr/>
        </p:nvPicPr>
        <p:blipFill>
          <a:blip r:embed="rId4"/>
          <a:stretch/>
        </p:blipFill>
        <p:spPr>
          <a:xfrm>
            <a:off x="500040" y="3857760"/>
            <a:ext cx="335772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1430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0" spc="-1" strike="noStrike">
                <a:solidFill>
                  <a:srgbClr val="ffffcc"/>
                </a:solidFill>
                <a:latin typeface="Times New Roman"/>
              </a:rPr>
              <a:t>ғ</a:t>
            </a:r>
            <a:endParaRPr b="1" lang="en-US" sz="1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Picture 2" descr="C:\Documents and Settings\Коробчаны\Рабочий стол\Фонзарядка\учитель.gif"/>
          <p:cNvPicPr/>
          <p:nvPr/>
        </p:nvPicPr>
        <p:blipFill>
          <a:blip r:embed="rId1"/>
          <a:stretch/>
        </p:blipFill>
        <p:spPr>
          <a:xfrm>
            <a:off x="5000760" y="3643200"/>
            <a:ext cx="3714480" cy="2857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Коробчаны\Рабочий стол\Фонзарядка\дерево.jpg"/>
          <p:cNvPicPr/>
          <p:nvPr/>
        </p:nvPicPr>
        <p:blipFill>
          <a:blip r:embed="rId2"/>
          <a:stretch/>
        </p:blipFill>
        <p:spPr>
          <a:xfrm>
            <a:off x="5000760" y="428760"/>
            <a:ext cx="3714480" cy="2754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Коробчаны\Рабочий стол\Фонзарядка\линейка.jpg"/>
          <p:cNvPicPr/>
          <p:nvPr/>
        </p:nvPicPr>
        <p:blipFill>
          <a:blip r:embed="rId3"/>
          <a:stretch/>
        </p:blipFill>
        <p:spPr>
          <a:xfrm>
            <a:off x="428760" y="428760"/>
            <a:ext cx="3571920" cy="2857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C:\Documents and Settings\Коробчаны\Рабочий стол\Фонзарядка\варежки.jpg"/>
          <p:cNvPicPr/>
          <p:nvPr/>
        </p:nvPicPr>
        <p:blipFill>
          <a:blip r:embed="rId4"/>
          <a:stretch/>
        </p:blipFill>
        <p:spPr>
          <a:xfrm>
            <a:off x="428760" y="3643200"/>
            <a:ext cx="3643200" cy="2876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143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0" spc="-1" strike="noStrike">
                <a:solidFill>
                  <a:srgbClr val="ffffcc"/>
                </a:solidFill>
                <a:latin typeface="Times New Roman"/>
              </a:rPr>
              <a:t>қ</a:t>
            </a:r>
            <a:endParaRPr b="1" lang="en-US" sz="1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2" name="Picture 2" descr="C:\Documents and Settings\Коробчаны\Рабочий стол\Фонзарядка\волк.jpg"/>
          <p:cNvPicPr/>
          <p:nvPr/>
        </p:nvPicPr>
        <p:blipFill>
          <a:blip r:embed="rId1"/>
          <a:stretch/>
        </p:blipFill>
        <p:spPr>
          <a:xfrm>
            <a:off x="571680" y="428760"/>
            <a:ext cx="3357360" cy="2643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C:\Documents and Settings\Коробчаны\Рабочий стол\Фонзарядка\кукла.jpg"/>
          <p:cNvPicPr/>
          <p:nvPr/>
        </p:nvPicPr>
        <p:blipFill>
          <a:blip r:embed="rId2"/>
          <a:stretch/>
        </p:blipFill>
        <p:spPr>
          <a:xfrm>
            <a:off x="500040" y="3714840"/>
            <a:ext cx="3510000" cy="2905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Documents and Settings\Коробчаны\Рабочий стол\Фонзарядка\заяц.jpg"/>
          <p:cNvPicPr/>
          <p:nvPr/>
        </p:nvPicPr>
        <p:blipFill>
          <a:blip r:embed="rId3"/>
          <a:stretch/>
        </p:blipFill>
        <p:spPr>
          <a:xfrm>
            <a:off x="5143680" y="3786120"/>
            <a:ext cx="3547800" cy="2819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C:\Documents and Settings\Коробчаны\Рабочий стол\Фонзарядка\ручка.jpg"/>
          <p:cNvPicPr/>
          <p:nvPr/>
        </p:nvPicPr>
        <p:blipFill>
          <a:blip r:embed="rId4"/>
          <a:stretch/>
        </p:blipFill>
        <p:spPr>
          <a:xfrm>
            <a:off x="5214960" y="428760"/>
            <a:ext cx="350028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kk-KZ" sz="12000" spc="-1" strike="noStrike">
                <a:solidFill>
                  <a:srgbClr val="ffffcc"/>
                </a:solidFill>
                <a:latin typeface="Times New Roman"/>
              </a:rPr>
              <a:t>һ</a:t>
            </a:r>
            <a:endParaRPr b="1" lang="en-US" sz="1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7" name="Picture 2" descr="C:\Documents and Settings\Коробчаны\Рабочий стол\Фонзарядка\мебель.jpg"/>
          <p:cNvPicPr/>
          <p:nvPr/>
        </p:nvPicPr>
        <p:blipFill>
          <a:blip r:embed="rId1"/>
          <a:stretch/>
        </p:blipFill>
        <p:spPr>
          <a:xfrm>
            <a:off x="285840" y="3071880"/>
            <a:ext cx="4632120" cy="341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Documents and Settings\Коробчаны\Рабочий стол\Фонзарядка\дракон.jpg"/>
          <p:cNvPicPr/>
          <p:nvPr/>
        </p:nvPicPr>
        <p:blipFill>
          <a:blip r:embed="rId2"/>
          <a:stretch/>
        </p:blipFill>
        <p:spPr>
          <a:xfrm>
            <a:off x="5214960" y="428760"/>
            <a:ext cx="3686040" cy="609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9285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2000" spc="-1" strike="noStrike">
                <a:solidFill>
                  <a:srgbClr val="ffffcc"/>
                </a:solidFill>
                <a:latin typeface="Times New Roman"/>
              </a:rPr>
              <a:t>ң</a:t>
            </a:r>
            <a:endParaRPr b="1" lang="en-US" sz="1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0" name="Picture 2" descr="C:\Documents and Settings\Коробчаны\Рабочий стол\Фонзарядка\мл брат.jpeg"/>
          <p:cNvPicPr/>
          <p:nvPr/>
        </p:nvPicPr>
        <p:blipFill>
          <a:blip r:embed="rId1"/>
          <a:stretch/>
        </p:blipFill>
        <p:spPr>
          <a:xfrm>
            <a:off x="444600" y="330120"/>
            <a:ext cx="3556080" cy="2955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Documents and Settings\Коробчаны\Рабочий стол\Фонзарядка\конёк.jpg"/>
          <p:cNvPicPr/>
          <p:nvPr/>
        </p:nvPicPr>
        <p:blipFill>
          <a:blip r:embed="rId2"/>
          <a:stretch/>
        </p:blipFill>
        <p:spPr>
          <a:xfrm>
            <a:off x="5072040" y="357120"/>
            <a:ext cx="3643200" cy="2921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C:\Documents and Settings\Коробчаны\Рабочий стол\Фонзарядка\kazakhstan_tenge_1000_r_2006.jpg"/>
          <p:cNvPicPr/>
          <p:nvPr/>
        </p:nvPicPr>
        <p:blipFill>
          <a:blip r:embed="rId3"/>
          <a:stretch/>
        </p:blipFill>
        <p:spPr>
          <a:xfrm>
            <a:off x="1357200" y="3714840"/>
            <a:ext cx="6715080" cy="292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1T16:20:28Z</dcterms:created>
  <dc:creator>Коробчаны</dc:creator>
  <dc:description/>
  <dc:language>en-US</dc:language>
  <cp:lastModifiedBy>Коробчаны</cp:lastModifiedBy>
  <dcterms:modified xsi:type="dcterms:W3CDTF">2014-01-31T17:30:07Z</dcterms:modified>
  <cp:revision>8</cp:revision>
  <dc:subject/>
  <dc:title>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