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gif" ContentType="image/gif"/>
  <Override PartName="/ppt/media/image4.jpeg" ContentType="image/jpeg"/>
  <Override PartName="/ppt/media/image8.gif" ContentType="image/gif"/>
  <Override PartName="/ppt/media/image5.gif" ContentType="image/gif"/>
  <Override PartName="/ppt/media/image6.png" ContentType="image/png"/>
  <Override PartName="/ppt/media/image7.gif" ContentType="image/gif"/>
  <Override PartName="/ppt/media/image9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D4416-307D-4CC8-9129-61023E3D7B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7E44F-54E4-457A-AC65-ED97C55FA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9896-5979-4A68-85B5-8D2CFB3698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B3B6-13FD-4AB1-9233-E3D048D54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2830FD-3F1E-4950-BEB1-075C68C9D0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6716A1-DEEC-43BC-B343-0B2DA321E3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F369BC-FC0D-4F6B-A9E7-385BF3796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3D037-B29B-4C4B-AD36-027D0535D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05A6FB-6112-4C79-8F7C-11C419B89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420BF0-84B2-4CEE-A9DC-46CC88D2D2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6FB70-7E4D-4096-AEFB-7D4991185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40891-E6CC-472C-AA55-50EB19125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64E87-D7EE-4729-8ABF-B932D1950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0769E2-660C-4279-8072-1A6FA7838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9D7C0-5FE2-4F06-9635-FA65218CE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3FF37-2C61-4F4D-B1C2-0BB733DA54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F7008B-B98E-4BA4-8283-7269430752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E1C6C-176F-41E1-BA5F-07FD9D5108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83E427-DF4F-4242-8D59-856D86AE8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F5BE-B4F9-40AE-8278-904290F66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0B2DE-EA04-4476-8DB8-DD588B5D33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26C48-1625-49B0-BECE-A88C0B794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A8297-457A-4BF6-91CA-1D58073DA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E99FB-6642-4532-A2B4-0255C2E87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олилиния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Полилиния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0D70C2-94CE-4D11-BFBB-791FD9612F0D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" name="Группа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Полилиния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Полилиния 11" descr=""/>
              <p:cNvPicPr/>
              <p:nvPr/>
            </p:nvPicPr>
            <p:blipFill>
              <a:blip r:embed="rId2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1" name="Полилиния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Полилиния 12" descr=""/>
              <p:cNvPicPr/>
              <p:nvPr/>
            </p:nvPicPr>
            <p:blipFill>
              <a:blip r:embed="rId3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bf5f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с одним вырезанным скругленным углом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Прямоугольный треугольник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олилиния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Полилиния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45c75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45c75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29C9A9-93EE-4EF5-9947-55112CDC1BBD}" type="slidenum">
              <a:rPr b="0" lang="ru-RU" sz="1200" spc="-1" strike="noStrike">
                <a:solidFill>
                  <a:srgbClr val="045c75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8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2" descr="C:\Documents and Settings\Администратор\Рабочий стол\пппп.gif"/>
          <p:cNvPicPr/>
          <p:nvPr/>
        </p:nvPicPr>
        <p:blipFill>
          <a:blip r:embed="rId1"/>
          <a:stretch/>
        </p:blipFill>
        <p:spPr>
          <a:xfrm>
            <a:off x="-285840" y="1143000"/>
            <a:ext cx="9858600" cy="3643200"/>
          </a:xfrm>
          <a:prstGeom prst="rect">
            <a:avLst/>
          </a:prstGeom>
          <a:ln w="0">
            <a:noFill/>
          </a:ln>
        </p:spPr>
      </p:pic>
    </p:spTree>
  </p:cSld>
  <p:transition spd="slow">
    <p:wheel spokes="1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Рисунок 4" descr="slide0019_image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іту сәті.</a:t>
            </a:r>
            <a:endParaRPr b="0" lang="en-US" sz="88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Рисунок 4" descr="slide0019_image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"/>
          <p:cNvSpPr txBox="1"/>
          <p:nvPr/>
        </p:nvSpPr>
        <p:spPr>
          <a:xfrm>
            <a:off x="357120" y="571320"/>
            <a:ext cx="822960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</a:t>
            </a:r>
            <a:endParaRPr b="0" lang="en-US" sz="115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5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3" name="Picture 2" descr="C:\Documents and Settings\Администратор\Рабочий стол\оргеог.gif"/>
          <p:cNvPicPr/>
          <p:nvPr/>
        </p:nvPicPr>
        <p:blipFill>
          <a:blip r:embed="rId2"/>
          <a:stretch/>
        </p:blipFill>
        <p:spPr>
          <a:xfrm>
            <a:off x="4572000" y="1547640"/>
            <a:ext cx="4357800" cy="53103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Рисунок 4" descr="slide0019_image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0" y="1643040"/>
            <a:ext cx="914400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7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ст жауаптары: 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) А; 2) А; 3) В; 4) В; 5) А</a:t>
            </a: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15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1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Рисунок 4" descr="slide0019_image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 txBox="1"/>
          <p:nvPr/>
        </p:nvSpPr>
        <p:spPr>
          <a:xfrm>
            <a:off x="428760" y="49968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ФИШБОУН»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22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kk-KZ" sz="8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әдісі</a:t>
            </a:r>
            <a:endParaRPr b="0" lang="en-US" sz="8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28" name="Picture 2" descr="C:\Documents and Settings\Администратор\Рабочий стол\ссс.gif"/>
          <p:cNvPicPr/>
          <p:nvPr/>
        </p:nvPicPr>
        <p:blipFill>
          <a:blip r:embed="rId2"/>
          <a:stretch/>
        </p:blipFill>
        <p:spPr>
          <a:xfrm rot="20511600">
            <a:off x="1834920" y="2557440"/>
            <a:ext cx="5895720" cy="38178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Рисунок 4" descr="slide0019_image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флексия:</a:t>
            </a: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24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1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1" descr="001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916680"/>
          </a:xfrm>
          <a:prstGeom prst="rect">
            <a:avLst/>
          </a:prstGeom>
          <a:ln w="0">
            <a:noFill/>
          </a:ln>
        </p:spPr>
      </p:pic>
      <p:sp>
        <p:nvSpPr>
          <p:cNvPr id="132" name="Прямоугольник 2"/>
          <p:cNvSpPr/>
          <p:nvPr/>
        </p:nvSpPr>
        <p:spPr>
          <a:xfrm rot="21006000">
            <a:off x="16920" y="417240"/>
            <a:ext cx="8254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зарларыңызға рахмет!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7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kk-KZ" sz="7200" spc="-1" strike="noStrike">
                <a:solidFill>
                  <a:srgbClr val="ffffff"/>
                </a:solidFill>
                <a:latin typeface="Times New Roman"/>
              </a:rPr>
              <a:t>Мақал-мәтелдер</a:t>
            </a:r>
            <a:r>
              <a:rPr b="0" lang="ru-RU" sz="7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72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8" name="Рисунок 4" descr="slide0019_image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4"/>
          <p:cNvSpPr/>
          <p:nvPr/>
        </p:nvSpPr>
        <p:spPr>
          <a:xfrm>
            <a:off x="0" y="310680"/>
            <a:ext cx="9286920" cy="509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1" lang="kk-KZ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ақал-мәтелдер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і саудың – тәні сау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ынықсаң –шымыр боласың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ман ауруға – жақсы ас.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Рисунок 4" descr="slide0019_image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3"/>
          <p:cNvSpPr/>
          <p:nvPr/>
        </p:nvSpPr>
        <p:spPr>
          <a:xfrm>
            <a:off x="0" y="857160"/>
            <a:ext cx="9144000" cy="567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бақтың тақырыбы:</a:t>
            </a:r>
            <a:endParaRPr b="0" lang="en-US" sz="6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                                        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571680" y="3428640"/>
            <a:ext cx="85723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</a:t>
            </a:r>
            <a:r>
              <a:rPr b="1" lang="kk-KZ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енсаулық»</a:t>
            </a:r>
            <a:br>
              <a:rPr sz="4900"/>
            </a:br>
            <a:endParaRPr b="0" lang="en-US" sz="9600" spc="-1" strike="noStrike">
              <a:solidFill>
                <a:srgbClr val="04617b"/>
              </a:solidFill>
              <a:latin typeface="Calibri"/>
            </a:endParaRPr>
          </a:p>
        </p:txBody>
      </p:sp>
    </p:spTree>
  </p:cSld>
  <p:transition>
    <p:wheel spokes="1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Прямоугольник 5"/>
          <p:cNvSpPr/>
          <p:nvPr/>
        </p:nvSpPr>
        <p:spPr>
          <a:xfrm rot="20515800">
            <a:off x="2312280" y="3798360"/>
            <a:ext cx="150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18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Үй жұмысы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4" name="Picture 12" descr="C:\Documents and Settings\Администратор\Мои документы\анимационные картинки\книга1.gif"/>
          <p:cNvPicPr/>
          <p:nvPr/>
        </p:nvPicPr>
        <p:blipFill>
          <a:blip r:embed="rId1"/>
          <a:stretch/>
        </p:blipFill>
        <p:spPr>
          <a:xfrm rot="20492400">
            <a:off x="393840" y="690120"/>
            <a:ext cx="7664400" cy="5085000"/>
          </a:xfrm>
          <a:prstGeom prst="rect">
            <a:avLst/>
          </a:prstGeom>
          <a:ln w="0">
            <a:noFill/>
          </a:ln>
        </p:spPr>
      </p:pic>
      <p:sp>
        <p:nvSpPr>
          <p:cNvPr id="105" name="Прямоугольник 6"/>
          <p:cNvSpPr/>
          <p:nvPr/>
        </p:nvSpPr>
        <p:spPr>
          <a:xfrm rot="20512800">
            <a:off x="1392840" y="3929040"/>
            <a:ext cx="3546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Үй  жұмысы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сөздерді жаттау,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«Денсаулық – зор байлық»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 </a:t>
            </a:r>
            <a:r>
              <a:rPr b="1" lang="kk-KZ" sz="24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эссе жазу</a:t>
            </a:r>
            <a:r>
              <a:rPr b="1" lang="kk-KZ" sz="2000" spc="-1" strike="noStrike">
                <a:solidFill>
                  <a:srgbClr val="0033cc"/>
                </a:solidFill>
                <a:latin typeface="Times New Roman"/>
                <a:ea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>
    <p:wheel spokes="1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4" descr="slide0019_image01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 txBox="1"/>
          <p:nvPr/>
        </p:nvSpPr>
        <p:spPr>
          <a:xfrm>
            <a:off x="428760" y="12855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16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600" spc="-1" strike="noStrike">
                <a:solidFill>
                  <a:srgbClr val="000000"/>
                </a:solidFill>
                <a:latin typeface="Times New Roman"/>
              </a:rPr>
              <a:t>Кластермен жұмыс</a:t>
            </a:r>
            <a:endParaRPr b="0" lang="en-US" sz="6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8" name="Picture 27" descr="pervclass"/>
          <p:cNvPicPr/>
          <p:nvPr/>
        </p:nvPicPr>
        <p:blipFill>
          <a:blip r:embed="rId2"/>
          <a:stretch/>
        </p:blipFill>
        <p:spPr>
          <a:xfrm rot="21378000">
            <a:off x="2709360" y="2808360"/>
            <a:ext cx="3962520" cy="369396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28760" y="3567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ңа сөздер:</a:t>
            </a:r>
            <a:endParaRPr b="0" lang="en-US" sz="6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500040" y="149976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І-топ: тазалық</a:t>
            </a:r>
            <a:r>
              <a:rPr b="0" lang="kk-KZ" sz="33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кепіл</a:t>
            </a:r>
            <a:r>
              <a:rPr b="0" lang="kk-KZ" sz="33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күн сайын</a:t>
            </a:r>
            <a:r>
              <a:rPr b="0" lang="kk-KZ" sz="33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күн тәртібі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ІІ-топ: сақтау</a:t>
            </a:r>
            <a:r>
              <a:rPr b="0" lang="kk-KZ" sz="33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құпия</a:t>
            </a:r>
            <a:r>
              <a:rPr b="0" lang="kk-KZ" sz="33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шыңықтыру</a:t>
            </a:r>
            <a:r>
              <a:rPr b="0" lang="kk-KZ" sz="33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күш-қуат.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ІІІ-топ: ағза</a:t>
            </a:r>
            <a:r>
              <a:rPr b="0" lang="kk-KZ" sz="33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зиянды</a:t>
            </a:r>
            <a:r>
              <a:rPr b="0" lang="kk-KZ" sz="33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пайдалы</a:t>
            </a:r>
            <a:r>
              <a:rPr b="0" lang="kk-KZ" sz="3300" spc="-1" strike="noStrike">
                <a:solidFill>
                  <a:srgbClr val="000000"/>
                </a:solidFill>
                <a:latin typeface="Constantia"/>
              </a:rPr>
              <a:t>, </a:t>
            </a:r>
            <a:r>
              <a:rPr b="1" lang="kk-KZ" sz="3300" spc="-1" strike="noStrike">
                <a:solidFill>
                  <a:srgbClr val="000000"/>
                </a:solidFill>
                <a:latin typeface="Constantia"/>
              </a:rPr>
              <a:t>әзірлеу</a:t>
            </a:r>
            <a:r>
              <a:rPr b="0" lang="kk-KZ" sz="33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1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аңа сөздер:</a:t>
            </a: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0" y="1428480"/>
            <a:ext cx="91440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І-топ: тазалық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 – чистота, </a:t>
            </a: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кепіл 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– залог, </a:t>
            </a: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күн сайын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 – в течение дня, </a:t>
            </a: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күн тәртібі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 – режим дня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ІІ-топ: сақтау 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– сохранить, </a:t>
            </a: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құпия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 – секрет, </a:t>
            </a: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шыңықтыру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 – закаливать, </a:t>
            </a: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күш-қуат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 – сила, энергия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ІІІ-топ: ағза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 – организм, </a:t>
            </a: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зиянды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 – вредный, </a:t>
            </a: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пайдалы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 – полезный, </a:t>
            </a: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әзірлеу</a:t>
            </a:r>
            <a:r>
              <a:rPr b="0" lang="kk-KZ" sz="2800" spc="-1" strike="noStrike">
                <a:solidFill>
                  <a:srgbClr val="000000"/>
                </a:solidFill>
                <a:latin typeface="Constantia"/>
              </a:rPr>
              <a:t> – готовить. 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13" name="Picture 27" descr="pervclass"/>
          <p:cNvPicPr/>
          <p:nvPr/>
        </p:nvPicPr>
        <p:blipFill>
          <a:blip r:embed="rId1"/>
          <a:stretch/>
        </p:blipFill>
        <p:spPr>
          <a:xfrm rot="21398400">
            <a:off x="487080" y="4557240"/>
            <a:ext cx="1984320" cy="2044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7" descr="pervclass"/>
          <p:cNvPicPr/>
          <p:nvPr/>
        </p:nvPicPr>
        <p:blipFill>
          <a:blip r:embed="rId2"/>
          <a:stretch/>
        </p:blipFill>
        <p:spPr>
          <a:xfrm rot="21398400">
            <a:off x="3416040" y="4557240"/>
            <a:ext cx="1984320" cy="204480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7" descr="pervclass"/>
          <p:cNvPicPr/>
          <p:nvPr/>
        </p:nvPicPr>
        <p:blipFill>
          <a:blip r:embed="rId3"/>
          <a:stretch/>
        </p:blipFill>
        <p:spPr>
          <a:xfrm rot="21398400">
            <a:off x="6702120" y="4557240"/>
            <a:ext cx="1984320" cy="2044800"/>
          </a:xfrm>
          <a:prstGeom prst="rect">
            <a:avLst/>
          </a:prstGeom>
          <a:ln w="0">
            <a:noFill/>
          </a:ln>
        </p:spPr>
      </p:pic>
    </p:spTree>
  </p:cSld>
  <p:transition>
    <p:wheel spokes="1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әтінмен жұмыс.</a:t>
            </a:r>
            <a:br>
              <a:rPr sz="5400"/>
            </a:br>
            <a:endParaRPr b="0" lang="en-US" sz="54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142560" y="999720"/>
            <a:ext cx="9001080" cy="564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залықты, мықты, адам, денсаулығы, болуы үшін, керек сақтау. Оянғанда, ұйқыдан, жуынып,       жасау керек, жаттығулар, тіс тазалау, - , ең бірінші. Ұмытпау керек, тазалықтың, ережелерін, күн сайын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қтау, мен, денсаулықты, нығайтудың, бір құпиясы, - , спорт. </a:t>
            </a:r>
            <a:r>
              <a:rPr b="1" lang="kk-KZ" sz="2600" spc="-1" strike="noStrike">
                <a:solidFill>
                  <a:srgbClr val="000000"/>
                </a:solidFill>
                <a:latin typeface="Constantia"/>
              </a:rPr>
              <a:t>Дене жаттығулары, өте пайдалы, әр түрлі, денсаулық үшін. </a:t>
            </a:r>
            <a:r>
              <a:rPr b="1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гітеміз,шыңықтырамыз,спорт, денемізді, арқылы. Күш-қуат, береді, спорт.</a:t>
            </a:r>
            <a:r>
              <a:rPr b="0" lang="kk-KZ" sz="2600" spc="-1" strike="noStrike">
                <a:solidFill>
                  <a:srgbClr val="000000"/>
                </a:solidFill>
                <a:latin typeface="Constantia"/>
              </a:rPr>
              <a:t>.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иянды, болмайды, дұрыс, адамның, тамақтану, - , ағзасына. Витаминдері, пайдалы, адам, таңдауға, асты, бар, мүмкіндігі. Дастарқанда, жемістер, көкөністер, мен, болуы қажет, жиі. Ішер алдында, әзірлеу керек, тамақты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1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0" y="571320"/>
            <a:ext cx="9144000" cy="61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дам денсаулығы мықты болуы үшін тазалықты сақтау керек. Ең бірінші – ұйқыдан оянғанда, жуынып, тіс тазалау, жаттығулар жасау керек. Күн сайын тазалықтың ережелерін ұмытпау керек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нсаулықты сақтау мен нығайтудың үлкен бір құпиясы – спорт.</a:t>
            </a:r>
            <a:r>
              <a:rPr b="1" lang="kk-KZ" sz="2800" spc="-1" strike="noStrike">
                <a:solidFill>
                  <a:srgbClr val="000000"/>
                </a:solidFill>
                <a:latin typeface="Constantia"/>
              </a:rPr>
              <a:t> Денсаулық үшін әр түрлі дене жаттығулары өте пайдалы. </a:t>
            </a:r>
            <a:r>
              <a:rPr b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порт арқылы денемізді шыңықтырамыз, сергітеміз. Спорт күш-қуат береді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ұрыс тамақтану – адамның ағзасына зиянды болмайды. Адам пайдалы витаминдері асты таңдауға мүмкіндігі бар. Жемістер мен көкөністер дастарқанда жиі болуы қажет. Тамақты ішер алдында әзірлеу керек.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67120" indent="-26712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transition>
    <p:wheel spokes="1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2-05T03:21:06Z</dcterms:created>
  <dc:creator>User</dc:creator>
  <dc:description/>
  <dc:language>en-US</dc:language>
  <cp:lastModifiedBy>Zver</cp:lastModifiedBy>
  <dcterms:modified xsi:type="dcterms:W3CDTF">2014-04-01T07:51:38Z</dcterms:modified>
  <cp:revision>29</cp:revision>
  <dc:subject/>
  <dc:title>Дыбыстыќ жаттыѓу</dc:title>
</cp:coreProperties>
</file>