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6.png" ContentType="image/png"/>
  <Override PartName="/ppt/media/image7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4816-B79F-444D-B209-65DB1D1F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4942-A715-4892-8CAA-3C52E911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5D69-BF73-45AA-A396-3CF734B0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B45-FFE0-4AFD-9165-1A0D1A00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0D45-D1DC-4042-8179-150CEA12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61F6-3988-4FAA-B84A-E5F11497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C1C8-4A79-4D1A-9C02-71F0E1FA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FCBE-D530-4339-A123-19E2DD80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5320-C64A-4207-A1D9-E9CF58C7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A5FA-09D8-44AC-A2D6-4E8DBF7D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9AF4-3D44-4D04-BF63-30C525F7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583-A615-48D1-9547-9E2FF3FD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1B9E-1879-4E6A-9806-64B26905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65A2-1DDA-4F5D-B0AE-805BA0AE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1D1D-BA6E-4F43-808B-81C01266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EDD4-1845-47AC-AA52-70E70E9E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F6CB-AD09-461B-AFBD-73BACF39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F0B9-F6B3-4610-995B-BF7D82A5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CFF-FA78-4395-A201-46A70213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431E-4B5A-4C32-98C3-A716CC0E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177-8602-4464-82D9-16D92F61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B11-55E0-412F-9356-D2957C61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5290-2710-4D4B-BA14-940D5C4B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BD8-7275-49F7-867C-582F6247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630D-C824-4772-94DD-99C50D46DB30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32A1-58E9-4A33-B392-E1C5A28D95AA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Администратор\Рабочий стол\пппп.gif"/>
          <p:cNvPicPr/>
          <p:nvPr/>
        </p:nvPicPr>
        <p:blipFill>
          <a:blip r:embed="rId1"/>
          <a:stretch/>
        </p:blipFill>
        <p:spPr>
          <a:xfrm>
            <a:off x="-285840" y="1143000"/>
            <a:ext cx="9858600" cy="364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4" descr="slide0019_image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іту сәті.</a:t>
            </a:r>
            <a:endParaRPr b="0" lang="en-US" sz="8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4" descr="slide0019_image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57120" y="57132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</a:t>
            </a:r>
            <a:endParaRPr b="0" lang="en-US" sz="1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Picture 2" descr="C:\Documents and Settings\Администратор\Рабочий стол\оргеог.gif"/>
          <p:cNvPicPr/>
          <p:nvPr/>
        </p:nvPicPr>
        <p:blipFill>
          <a:blip r:embed="rId2"/>
          <a:stretch/>
        </p:blipFill>
        <p:spPr>
          <a:xfrm>
            <a:off x="4572000" y="1547640"/>
            <a:ext cx="4357800" cy="5310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4" descr="slide0019_image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0" y="1643040"/>
            <a:ext cx="914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жауаптары: 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; 2) А; 3) В; 4) В; 5) А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4" descr="slide0019_image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28760" y="499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ИШБОУН»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дісі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2" descr="C:\Documents and Settings\Администратор\Рабочий стол\ссс.gif"/>
          <p:cNvPicPr/>
          <p:nvPr/>
        </p:nvPicPr>
        <p:blipFill>
          <a:blip r:embed="rId2"/>
          <a:stretch/>
        </p:blipFill>
        <p:spPr>
          <a:xfrm rot="20511600">
            <a:off x="1834920" y="2557440"/>
            <a:ext cx="5895720" cy="38178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4" descr="slide0019_image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: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1" descr="00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2"/>
          <p:cNvSpPr/>
          <p:nvPr/>
        </p:nvSpPr>
        <p:spPr>
          <a:xfrm rot="21006000">
            <a:off x="16920" y="417240"/>
            <a:ext cx="825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арларыңызға рахмет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7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k-KZ" sz="7200" spc="-1" strike="noStrike">
                <a:solidFill>
                  <a:srgbClr val="ffffff"/>
                </a:solidFill>
                <a:latin typeface="Times New Roman"/>
              </a:rPr>
              <a:t>Мақал-мәтелдер</a:t>
            </a: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8" name="Рисунок 4" descr="slide0019_image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0" y="310680"/>
            <a:ext cx="92869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kk-KZ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қал-мәтелде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і саудың – тәні сау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ынықсаң –шымыр боласың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ман ауруға – жақсы ас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4" descr="slide0019_image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0" y="857160"/>
            <a:ext cx="9144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бақтың тақырыбы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680" y="34286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kk-KZ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нсаулық»</a:t>
            </a:r>
            <a:br>
              <a:rPr sz="4900"/>
            </a:b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5"/>
          <p:cNvSpPr/>
          <p:nvPr/>
        </p:nvSpPr>
        <p:spPr>
          <a:xfrm rot="20515800">
            <a:off x="2312280" y="379836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Үй жұмы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2" descr="C:\Documents and Settings\Администратор\Мои документы\анимационные картинки\книга1.gif"/>
          <p:cNvPicPr/>
          <p:nvPr/>
        </p:nvPicPr>
        <p:blipFill>
          <a:blip r:embed="rId1"/>
          <a:stretch/>
        </p:blipFill>
        <p:spPr>
          <a:xfrm rot="20492400">
            <a:off x="393840" y="690120"/>
            <a:ext cx="7664400" cy="50850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6"/>
          <p:cNvSpPr/>
          <p:nvPr/>
        </p:nvSpPr>
        <p:spPr>
          <a:xfrm rot="20512800">
            <a:off x="1392840" y="3929040"/>
            <a:ext cx="354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Үй  жұмы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өздерді жатта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«Денсаулық – зор байлық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kk-K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эссе жазу</a:t>
            </a:r>
            <a:r>
              <a:rPr b="1" lang="kk-KZ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4" descr="slide0019_image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28760" y="1285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000000"/>
                </a:solidFill>
                <a:latin typeface="Times New Roman"/>
              </a:rPr>
              <a:t>Кластермен жұмыс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27" descr="pervclass"/>
          <p:cNvPicPr/>
          <p:nvPr/>
        </p:nvPicPr>
        <p:blipFill>
          <a:blip r:embed="rId2"/>
          <a:stretch/>
        </p:blipFill>
        <p:spPr>
          <a:xfrm rot="21378000">
            <a:off x="2709360" y="2808360"/>
            <a:ext cx="3962520" cy="3693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ңа сөздер: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004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І-топ: тазалық</a:t>
            </a:r>
            <a:r>
              <a:rPr b="0" lang="kk-KZ" sz="33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кепіл</a:t>
            </a:r>
            <a:r>
              <a:rPr b="0" lang="kk-KZ" sz="33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күн сайын</a:t>
            </a:r>
            <a:r>
              <a:rPr b="0" lang="kk-KZ" sz="33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күн тәртібі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ІІ-топ: сақтау</a:t>
            </a:r>
            <a:r>
              <a:rPr b="0" lang="kk-KZ" sz="33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құпия</a:t>
            </a:r>
            <a:r>
              <a:rPr b="0" lang="kk-KZ" sz="33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шыңықтыру</a:t>
            </a:r>
            <a:r>
              <a:rPr b="0" lang="kk-KZ" sz="33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күш-қуат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ІІІ-топ: ағза</a:t>
            </a:r>
            <a:r>
              <a:rPr b="0" lang="kk-KZ" sz="33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зиянды</a:t>
            </a:r>
            <a:r>
              <a:rPr b="0" lang="kk-KZ" sz="33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пайдалы</a:t>
            </a:r>
            <a:r>
              <a:rPr b="0" lang="kk-KZ" sz="33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әзірлеу</a:t>
            </a:r>
            <a:r>
              <a:rPr b="0" lang="kk-KZ" sz="33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ңа сөздер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42848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І-топ: тазалық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 – чистота, </a:t>
            </a: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кепіл 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– залог, </a:t>
            </a: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күн сайын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 – в течение дня, </a:t>
            </a: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күн тәртібі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 – режим дн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ІІ-топ: сақтау 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– сохранить, </a:t>
            </a: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құпия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 – секрет, </a:t>
            </a: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шыңықтыру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 – закаливать, </a:t>
            </a: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күш-қуат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 – сила, энерг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ІІІ-топ: ағза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 – организм, </a:t>
            </a: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зиянды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 – вредный, </a:t>
            </a: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пайдалы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 – полезный, </a:t>
            </a: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әзірлеу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 – готовить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3" name="Picture 27" descr="pervclass"/>
          <p:cNvPicPr/>
          <p:nvPr/>
        </p:nvPicPr>
        <p:blipFill>
          <a:blip r:embed="rId1"/>
          <a:stretch/>
        </p:blipFill>
        <p:spPr>
          <a:xfrm rot="21398400">
            <a:off x="487080" y="4557240"/>
            <a:ext cx="1984320" cy="204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pervclass"/>
          <p:cNvPicPr/>
          <p:nvPr/>
        </p:nvPicPr>
        <p:blipFill>
          <a:blip r:embed="rId2"/>
          <a:stretch/>
        </p:blipFill>
        <p:spPr>
          <a:xfrm rot="21398400">
            <a:off x="3416040" y="4557240"/>
            <a:ext cx="1984320" cy="2044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pervclass"/>
          <p:cNvPicPr/>
          <p:nvPr/>
        </p:nvPicPr>
        <p:blipFill>
          <a:blip r:embed="rId3"/>
          <a:stretch/>
        </p:blipFill>
        <p:spPr>
          <a:xfrm rot="21398400">
            <a:off x="6702120" y="4557240"/>
            <a:ext cx="1984320" cy="20448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әтінмен жұмыс.</a:t>
            </a:r>
            <a:br>
              <a:rPr sz="5400"/>
            </a:b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560" y="999720"/>
            <a:ext cx="9001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залықты, мықты, адам, денсаулығы, болуы үшін, керек сақтау. Оянғанда, ұйқыдан, жуынып,       жасау керек, жаттығулар, тіс тазалау, - , ең бірінші. Ұмытпау керек, тазалықтың, ережелерін, күн сайы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қтау, мен, денсаулықты, нығайтудың, бір құпиясы, - , спорт. </a:t>
            </a:r>
            <a:r>
              <a:rPr b="1" lang="kk-KZ" sz="2600" spc="-1" strike="noStrike">
                <a:solidFill>
                  <a:srgbClr val="000000"/>
                </a:solidFill>
                <a:latin typeface="Constantia"/>
              </a:rPr>
              <a:t>Дене жаттығулары, өте пайдалы, әр түрлі, денсаулық үшін. </a:t>
            </a:r>
            <a:r>
              <a:rPr b="1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ітеміз,шыңықтырамыз,спорт, денемізді, арқылы. Күш-қуат, береді, спорт.</a:t>
            </a: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янды, болмайды, дұрыс, адамның, тамақтану, - , ағзасына. Витаминдері, пайдалы, адам, таңдауға, асты, бар, мүмкіндігі. Дастарқанда, жемістер, көкөністер, мен, болуы қажет, жиі. Ішер алдында, әзірлеу керек, тамақ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0" y="571320"/>
            <a:ext cx="91440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м денсаулығы мықты болуы үшін тазалықты сақтау керек. Ең бірінші – ұйқыдан оянғанда, жуынып, тіс тазалау, жаттығулар жасау керек. Күн сайын тазалықтың ережелерін ұмытпау керек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саулықты сақтау мен нығайтудың үлкен бір құпиясы – спорт.</a:t>
            </a: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 Денсаулық үшін әр түрлі дене жаттығулары өте пайдалы. </a:t>
            </a:r>
            <a:r>
              <a:rPr b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рт арқылы денемізді шыңықтырамыз, сергітеміз. Спорт күш-қуат береді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ұрыс тамақтану – адамның ағзасына зиянды болмайды. Адам пайдалы витаминдері асты таңдауға мүмкіндігі бар. Жемістер мен көкөністер дастарқанда жиі болуы қажет. Тамақты ішер алдында әзірлеу керек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3:21:06Z</dcterms:created>
  <dc:creator>User</dc:creator>
  <dc:description/>
  <dc:language>en-US</dc:language>
  <cp:lastModifiedBy>Zver</cp:lastModifiedBy>
  <dcterms:modified xsi:type="dcterms:W3CDTF">2014-04-01T07:51:38Z</dcterms:modified>
  <cp:revision>29</cp:revision>
  <dc:subject/>
  <dc:title>Дыбыстыќ жаттыѓу</dc:title>
</cp:coreProperties>
</file>