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5.wmf" ContentType="image/x-wmf"/>
  <Override PartName="/ppt/media/image14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4.wmf" ContentType="image/x-wmf"/>
  <Override PartName="/ppt/media/image4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0376-BCF1-416B-9CF0-85D4BFFED4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C3E2-B68F-481F-9FDB-A715799226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75BB-37A1-4C1D-8950-FE50BDF3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BC8C-F544-4AF7-A373-93285F0D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FF4-88CF-4319-871D-2266B2F1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39D-FBB0-437A-8375-C67F5E2C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529C-75E6-4616-8CD5-731CF9FD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55C4-F930-4848-AD49-2338754A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DE86-1181-4F2A-ABEB-114AA549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8F4A-47B0-4CD4-A9ED-F40A900E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7661-C799-4F66-B173-BBDB7B0F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B8FB-90FC-4722-8B99-BB820B22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752A-3AAC-4079-973C-A5960CD5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9E5-5899-4106-870F-654B8A62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F7A2-C36A-44A1-976A-541D9588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02CA-8F00-4919-8196-05CBBE52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39CB-45BC-4B5D-B33B-DE92D5FB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72A5-7DBF-475B-82CD-7FA2CD35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336A-EB84-4EBB-B2B4-1D040ADE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1F368-047D-4F16-8380-41C938E0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D5735-1D10-4F18-BFD3-189ED7B4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17DB3-9EAB-424E-819C-3EE49339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0AA2B-7F0C-402B-B363-8D7705FC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C5A06-C5E4-45CC-BE70-B3B37293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90D-9090-4D53-AC97-60700C23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570206-D0BD-416E-BC46-3A4BCA1E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CCAD5-A1DE-4932-B23B-6E8619F2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D60B0C-77BF-4AF3-81E8-46A45D13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F070E-8535-4459-8E5F-D61F573D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9ACC3-1294-47FA-AB40-0857BC37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C9FED-0753-4FBC-AEE9-CBD452F1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2C0B6-939F-4F0C-B943-5FE187A9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28E97-DCAC-4672-B901-07377064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DE8A5-7D8E-433A-AEF2-BACDA6EA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B8ABD-A5F5-45FE-B958-BFB726E5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B30-CDAD-4390-81D3-4355B685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727A9-13D8-4D23-83D9-18811F90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905FF-3C48-4DF3-9B43-57E8267A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9EBD6-78A1-4A1A-A36D-17C3D180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2E3BB-2954-4588-A384-E25FEDDE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5A41A-EA4E-4A25-A73C-E3981DCA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4F155-C2AC-45C8-BED8-C54C85B2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7F473-8BC2-4480-8396-69013810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0758B-BAC3-4ACB-9862-0B2C59C6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9C94C-2F46-42D9-A597-B152BE08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DD8-FA54-401C-88A6-222D00E2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72B-BB6F-4B06-B267-118E57CD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20F0-2460-489F-AEA5-3D607A2E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EA7-F89C-4353-BFC5-0F10DB3B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D48-5797-45B8-A74E-D7EEF1C1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6DC4-1357-4E39-A639-9D9792A3507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8D4A-CECA-44AA-A1ED-6B84ABD98A8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40BB-623F-492E-9D40-AA0940C2CBC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776E-DC7F-4CBB-B762-4C5F0D8AB0B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ikhail_Lomonosov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esus.pnz.ru/Oboi/4/4mud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14200"/>
            <a:ext cx="8458200" cy="31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1" lang="ru-RU" sz="8000" spc="-1" strike="noStrike">
                <a:solidFill>
                  <a:srgbClr val="ffc000"/>
                </a:solidFill>
                <a:latin typeface="Trebuchet MS"/>
              </a:rPr>
              <a:t>КРАЕВЕДЕНИЕ</a:t>
            </a:r>
            <a:br>
              <a:rPr sz="8000"/>
            </a:br>
            <a:r>
              <a:rPr b="1" lang="ru-RU" sz="8000" spc="-1" strike="noStrike">
                <a:solidFill>
                  <a:srgbClr val="ffc000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ffc000"/>
                </a:solidFill>
                <a:latin typeface="Trebuchet MS"/>
              </a:rPr>
              <a:t>как источник патриотических идей воспита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6064"/>
                </a:solidFill>
                <a:latin typeface="Georgia"/>
              </a:rPr>
              <a:t>Бондаренко  В.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6064"/>
                </a:solidFill>
                <a:latin typeface="Georgia"/>
              </a:rPr>
              <a:t>Учитель истории  КГУ «Средняя школа  №1»  акимата города  Рудног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2" descr="D:\Оксана документы\Краеведение\logik000.gif"/>
          <p:cNvPicPr/>
          <p:nvPr/>
        </p:nvPicPr>
        <p:blipFill>
          <a:blip r:embed="rId1"/>
          <a:stretch/>
        </p:blipFill>
        <p:spPr>
          <a:xfrm>
            <a:off x="5715000" y="40719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714240"/>
            <a:ext cx="73915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i="1" lang="ru-RU" sz="4800" spc="-1" strike="noStrike">
                <a:solidFill>
                  <a:srgbClr val="438086"/>
                </a:solidFill>
                <a:latin typeface="Trebuchet MS"/>
              </a:rPr>
              <a:t>Воспитательные задачи:</a:t>
            </a:r>
            <a:br>
              <a:rPr sz="4800"/>
            </a:b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оспитание чувства гражданственности и патриотизма, гордости  за свою Родину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формирование активной жизненной позици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глубление и систематизация знаний о своей семь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оспитание  обучающихся  на положительном примере  жизни  и  деятельности   земляков, понимания ценности и значимости каждой человеческой жизн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оспитание  гордости  и  уважения  к  живущим  рядом  ветеранам  войны  и  труд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оспитание бережного отношения к природ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оспитание чувства личной ответственности за всё происходящее в окружающем мире, потребность быть деятельным соучастником в общественной, учебной, трудовой и досуговой сферах жизн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Picture 15" descr="Mikhail_Lomonoso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34320" y="0"/>
            <a:ext cx="1309680" cy="18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928440"/>
            <a:ext cx="82296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38086"/>
                </a:solidFill>
                <a:latin typeface="Georgia"/>
              </a:rPr>
              <a:t>Развивающие задачи: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сширять знания учащихся по краеведению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витие познавательного интереса, интеллектуальных и творческих способносте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имулирование стремления знать как можно больше о родном крае и его людях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витие способности к творчеству, овладению и стремлению  самостоятельно добывать новые знани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85520" y="857160"/>
            <a:ext cx="790092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38086"/>
                </a:solidFill>
                <a:latin typeface="Georgia"/>
              </a:rPr>
              <a:t>Направленность программы</a:t>
            </a:r>
            <a:r>
              <a:rPr b="0" lang="ru-RU" sz="4400" spc="-1" strike="noStrike">
                <a:solidFill>
                  <a:srgbClr val="438086"/>
                </a:solidFill>
                <a:latin typeface="Georgi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ормирование патриотического сознания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ормирование гражданского поведения и правовой культуры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ормирование коммуникативной культуры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ормирование опыта творческой, учебно-исследовательской деятельност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ормирование опыта социально-значимой деятельнос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77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77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77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77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77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77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77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77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77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77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77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77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5" dur="77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999720"/>
            <a:ext cx="82296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38086"/>
                </a:solidFill>
                <a:latin typeface="Georgia"/>
              </a:rPr>
              <a:t>Методические приемы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сновными методическими приемами являются: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сследовательская деятельность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исковая деятельность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рганизационная деятельность (организация и проведение экскурсий, праздников, конкурсов)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Индивидуальная работа с учащимис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28592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38086"/>
                </a:solidFill>
                <a:latin typeface="Trebuchet MS"/>
              </a:rPr>
              <a:t>СОДЕРЖАНИЕ  КУРСА</a:t>
            </a:r>
            <a:br>
              <a:rPr sz="4000"/>
            </a:b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1" lang="ru-RU" sz="4400" spc="-1" strike="noStrike">
                <a:solidFill>
                  <a:srgbClr val="424456"/>
                </a:solidFill>
                <a:latin typeface="Trebuchet MS"/>
              </a:rPr>
              <a:t>1.  Природа родного края </a:t>
            </a:r>
            <a:br>
              <a:rPr sz="4400"/>
            </a:br>
            <a:r>
              <a:rPr b="1" lang="ru-RU" sz="4400" spc="-1" strike="noStrike">
                <a:solidFill>
                  <a:srgbClr val="424456"/>
                </a:solidFill>
                <a:latin typeface="Trebuchet MS"/>
              </a:rPr>
              <a:t>2. «Родословная»</a:t>
            </a:r>
            <a:br>
              <a:rPr sz="4400"/>
            </a:br>
            <a:r>
              <a:rPr b="1" lang="ru-RU" sz="4400" spc="-1" strike="noStrike">
                <a:solidFill>
                  <a:srgbClr val="424456"/>
                </a:solidFill>
                <a:latin typeface="Trebuchet MS"/>
              </a:rPr>
              <a:t>3. «История родного края»</a:t>
            </a:r>
            <a:br>
              <a:rPr sz="4400"/>
            </a:br>
            <a:r>
              <a:rPr b="1" lang="ru-RU" sz="4400" spc="-1" strike="noStrike">
                <a:solidFill>
                  <a:srgbClr val="424456"/>
                </a:solidFill>
                <a:latin typeface="Trebuchet MS"/>
              </a:rPr>
              <a:t>4. Творческая работа 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>
    <p:dissolv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 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38086"/>
                </a:solidFill>
                <a:latin typeface="Trebuchet MS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438086"/>
                </a:solidFill>
                <a:latin typeface="Trebuchet MS"/>
              </a:rPr>
              <a:t>МУЗЕИ И ИХ РОЛЬ В ИЗУЧЕНИИ                 ИСТОРИИ КРАЯ«</a:t>
            </a:r>
            <a:r>
              <a:rPr b="1" lang="ru-RU" sz="2800" spc="-1" strike="noStrike">
                <a:solidFill>
                  <a:srgbClr val="438086"/>
                </a:solidFill>
                <a:latin typeface="Trebuchet MS"/>
              </a:rPr>
              <a:t>Главное призвание музея – это сделать так, чтобы все, что там собрано, стало достоянием народа»</a:t>
            </a:r>
            <a:br>
              <a:rPr sz="28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0" name="Picture 4" descr="C:\Windows\system32\config\systemprofile\Desktop\край\kraeved-2017-03.jpg"/>
          <p:cNvPicPr/>
          <p:nvPr/>
        </p:nvPicPr>
        <p:blipFill>
          <a:blip r:embed="rId1"/>
          <a:stretch/>
        </p:blipFill>
        <p:spPr>
          <a:xfrm>
            <a:off x="214200" y="3214800"/>
            <a:ext cx="4643640" cy="3429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C:\Windows\system32\config\systemprofile\Desktop\край\kraeved-2017-04.jpg"/>
          <p:cNvPicPr/>
          <p:nvPr/>
        </p:nvPicPr>
        <p:blipFill>
          <a:blip r:embed="rId2"/>
          <a:stretch/>
        </p:blipFill>
        <p:spPr>
          <a:xfrm>
            <a:off x="4888080" y="3214800"/>
            <a:ext cx="4165560" cy="342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 u="sng">
              <a:solidFill>
                <a:srgbClr val="424456"/>
              </a:solidFill>
              <a:uFillTx/>
              <a:latin typeface="Trebuchet MS"/>
            </a:endParaRPr>
          </a:p>
        </p:txBody>
      </p:sp>
      <p:pic>
        <p:nvPicPr>
          <p:cNvPr id="253" name="Picture 4" descr="C:\Windows\system32\config\systemprofile\Desktop\край\kraeved-2017-05.jpg"/>
          <p:cNvPicPr/>
          <p:nvPr/>
        </p:nvPicPr>
        <p:blipFill>
          <a:blip r:embed="rId1"/>
          <a:stretch/>
        </p:blipFill>
        <p:spPr>
          <a:xfrm>
            <a:off x="285840" y="107172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Windows\system32\config\systemprofile\Desktop\край\kraeved-2017-06.jpg"/>
          <p:cNvPicPr/>
          <p:nvPr/>
        </p:nvPicPr>
        <p:blipFill>
          <a:blip r:embed="rId2"/>
          <a:stretch/>
        </p:blipFill>
        <p:spPr>
          <a:xfrm>
            <a:off x="4143240" y="3500280"/>
            <a:ext cx="4756320" cy="28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438086"/>
                </a:solidFill>
                <a:uFillTx/>
                <a:latin typeface="Trebuchet MS"/>
              </a:rPr>
              <a:t>Краеведческий музей г. Лисаковск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6" name="Picture 4" descr="C:\Windows\system32\config\systemprofile\Desktop\2015 год\Фото-0109.jpg"/>
          <p:cNvPicPr/>
          <p:nvPr/>
        </p:nvPicPr>
        <p:blipFill>
          <a:blip r:embed="rId1"/>
          <a:stretch/>
        </p:blipFill>
        <p:spPr>
          <a:xfrm>
            <a:off x="357120" y="2249640"/>
            <a:ext cx="3286080" cy="4324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4786200" y="2046240"/>
            <a:ext cx="3554640" cy="4597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</p:spTree>
  </p:cSld>
  <p:transition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38086"/>
                </a:solidFill>
                <a:uFillTx/>
                <a:latin typeface="Trebuchet MS"/>
              </a:rPr>
              <a:t>Краеведческий музей г. Рудного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4786200" y="2214720"/>
            <a:ext cx="4071960" cy="3357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285840" y="2000160"/>
            <a:ext cx="4286160" cy="3643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</p:spTree>
  </p:cSld>
  <p:transition>
    <p:dissolv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38086"/>
                </a:solidFill>
                <a:uFillTx/>
                <a:latin typeface="Trebuchet MS"/>
              </a:rPr>
              <a:t>Коллаж (творческая работа)</a:t>
            </a:r>
            <a:br>
              <a:rPr sz="3200"/>
            </a:br>
            <a:r>
              <a:rPr b="1" lang="ru-RU" sz="3200" spc="-1" strike="noStrike" u="sng">
                <a:solidFill>
                  <a:srgbClr val="438086"/>
                </a:solidFill>
                <a:uFillTx/>
                <a:latin typeface="Trebuchet MS"/>
              </a:rPr>
              <a:t>Мой родной город Рудный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2070000" y="1428840"/>
            <a:ext cx="5430960" cy="5145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</p:spTree>
  </p:cSld>
  <p:transition>
    <p:dissolv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833436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4400" spc="-1" strike="noStrike">
                <a:solidFill>
                  <a:srgbClr val="ffc000"/>
                </a:solidFill>
                <a:latin typeface="Trebuchet MS"/>
              </a:rPr>
              <a:t>СОДЕРЖАНИЕ, ФОРМЫ И МЕТОДЫ ФАКУЛЬТАТИВНОГО КУРСА  «КРАЕВЕДЕНИЕ»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655200" y="5266800"/>
            <a:ext cx="460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26" name="Picture 4" descr="Мудрост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4064040"/>
            <a:ext cx="3708360" cy="27939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-1573200" y="74880"/>
            <a:ext cx="122904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целью данной Программы является -  систематизация и расширение представлений учащихся о своем крае, развитие чувства патриотизм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522360" y="785880"/>
            <a:ext cx="7718400" cy="5788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85716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38086"/>
                </a:solidFill>
                <a:latin typeface="Georgia"/>
              </a:rPr>
              <a:t> </a:t>
            </a:r>
            <a:r>
              <a:rPr b="1" lang="ru-RU" sz="4400" spc="-1" strike="noStrike">
                <a:solidFill>
                  <a:srgbClr val="438086"/>
                </a:solidFill>
                <a:latin typeface="Georgia"/>
              </a:rPr>
              <a:t>Экскурсия в  городской краеведческий музей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8086"/>
                </a:solidFill>
                <a:latin typeface="Georgia"/>
              </a:rPr>
              <a:t>«С чего начинался наш город?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«Здесь все дышит историей. Историей наших карьеров, наших месторождений, историей человека, прежде всего. Мы показываем все эти достижения через людей. Они были первыми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500040" y="1000080"/>
            <a:ext cx="8143920" cy="55738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38086"/>
                </a:solidFill>
                <a:latin typeface="Trebuchet MS"/>
              </a:rPr>
              <a:t>Этапы большого пути город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571680" y="1500120"/>
            <a:ext cx="7643520" cy="4714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38086"/>
                </a:solidFill>
                <a:latin typeface="Trebuchet MS"/>
              </a:rPr>
              <a:t>История нашего города Рудного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9" name="Picture 5" descr="C:\Windows\system32\config\systemprofile\Desktop\край\img2.jpg"/>
          <p:cNvPicPr/>
          <p:nvPr/>
        </p:nvPicPr>
        <p:blipFill>
          <a:blip r:embed="rId1"/>
          <a:stretch/>
        </p:blipFill>
        <p:spPr>
          <a:xfrm>
            <a:off x="428760" y="1214280"/>
            <a:ext cx="3724200" cy="2428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C:\Windows\system32\config\systemprofile\Desktop\край\img3.jpg"/>
          <p:cNvPicPr/>
          <p:nvPr/>
        </p:nvPicPr>
        <p:blipFill>
          <a:blip r:embed="rId2"/>
          <a:stretch/>
        </p:blipFill>
        <p:spPr>
          <a:xfrm>
            <a:off x="4786200" y="1214280"/>
            <a:ext cx="3500640" cy="2500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C:\Windows\system32\config\systemprofile\Desktop\край\img4.jpg"/>
          <p:cNvPicPr/>
          <p:nvPr/>
        </p:nvPicPr>
        <p:blipFill>
          <a:blip r:embed="rId3"/>
          <a:stretch/>
        </p:blipFill>
        <p:spPr>
          <a:xfrm>
            <a:off x="428760" y="3929040"/>
            <a:ext cx="3643200" cy="2727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C:\Windows\system32\config\systemprofile\Desktop\край\img5.jpg"/>
          <p:cNvPicPr/>
          <p:nvPr/>
        </p:nvPicPr>
        <p:blipFill>
          <a:blip r:embed="rId4"/>
          <a:stretch/>
        </p:blipFill>
        <p:spPr>
          <a:xfrm>
            <a:off x="4572000" y="4000680"/>
            <a:ext cx="3929040" cy="28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38086"/>
                </a:solidFill>
                <a:latin typeface="Trebuchet MS"/>
              </a:rPr>
              <a:t>Исследовательская деятель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7715160" cy="4930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38086"/>
                </a:solidFill>
                <a:latin typeface="Trebuchet MS"/>
              </a:rPr>
              <a:t>Научно-исследовательская работ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Путешественники и путешествия: </a:t>
            </a:r>
            <a:br>
              <a:rPr sz="2800"/>
            </a:br>
            <a:r>
              <a:rPr b="0" lang="ru-RU" sz="2800" spc="-1" strike="noStrike">
                <a:solidFill>
                  <a:srgbClr val="438086"/>
                </a:solidFill>
                <a:latin typeface="Georgia"/>
              </a:rPr>
              <a:t>из истории географических и геологических исследований в 13-20 вв. на территории современной Костанайской облас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38086"/>
                </a:solidFill>
                <a:latin typeface="Georgia"/>
              </a:rPr>
              <a:t>Исполнитель : Шаяхметова Диляра </a:t>
            </a:r>
            <a:br>
              <a:rPr sz="1100"/>
            </a:br>
            <a:r>
              <a:rPr b="0" lang="ru-RU" sz="1100" spc="-1" strike="noStrike">
                <a:solidFill>
                  <a:srgbClr val="438086"/>
                </a:solidFill>
                <a:latin typeface="Georgia"/>
              </a:rPr>
              <a:t>Учащаяся 7 класса «А» </a:t>
            </a:r>
            <a:br>
              <a:rPr sz="1100"/>
            </a:br>
            <a:r>
              <a:rPr b="0" lang="ru-RU" sz="1100" spc="-1" strike="noStrike">
                <a:solidFill>
                  <a:srgbClr val="438086"/>
                </a:solidFill>
                <a:latin typeface="Georgia"/>
              </a:rPr>
              <a:t>КГУ «Средняя  школа № 1 </a:t>
            </a:r>
            <a:br>
              <a:rPr sz="1100"/>
            </a:br>
            <a:r>
              <a:rPr b="0" lang="ru-RU" sz="1100" spc="-1" strike="noStrike">
                <a:solidFill>
                  <a:srgbClr val="438086"/>
                </a:solidFill>
                <a:latin typeface="Georgia"/>
              </a:rPr>
              <a:t>акимата города Рудного»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7" name="Picture 1" descr="C:\Windows\System32\config\systemprofile\Downloads\reka_Tobol_photographiya_1.jpg"/>
          <p:cNvPicPr/>
          <p:nvPr/>
        </p:nvPicPr>
        <p:blipFill>
          <a:blip r:embed="rId1"/>
          <a:stretch/>
        </p:blipFill>
        <p:spPr>
          <a:xfrm>
            <a:off x="2643120" y="4000680"/>
            <a:ext cx="271476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8" name="Picture 2" descr="C:\Windows\System32\config\systemprofile\Downloads\0_97d64_85311a65_XL.jpg"/>
          <p:cNvPicPr/>
          <p:nvPr/>
        </p:nvPicPr>
        <p:blipFill>
          <a:blip r:embed="rId2"/>
          <a:stretch/>
        </p:blipFill>
        <p:spPr>
          <a:xfrm>
            <a:off x="5786280" y="4071960"/>
            <a:ext cx="300060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38086"/>
                </a:solidFill>
                <a:latin typeface="Trebuchet MS"/>
              </a:rPr>
              <a:t>Актуальность работы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4268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рритория нашей области часто становилась объектом исследований ученых и путешественников разных стран. Их записи, собранные сведения имеют огромную историческую и  этнографическую ценность. Природа области, легенды народа, загадки прошлого вызывали у посетивших наш край неподдельный интерес и желание познать как можно больш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38086"/>
                </a:solidFill>
                <a:latin typeface="Trebuchet MS"/>
              </a:rPr>
              <a:t>ИСТОРИЯ И СОВРЕМЕН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2" name="Picture 4" descr="C:\Windows\system32\config\systemprofile\Desktop\край\img6.jpg"/>
          <p:cNvPicPr/>
          <p:nvPr/>
        </p:nvPicPr>
        <p:blipFill>
          <a:blip r:embed="rId1"/>
          <a:stretch/>
        </p:blipFill>
        <p:spPr>
          <a:xfrm>
            <a:off x="0" y="1357200"/>
            <a:ext cx="4156200" cy="2714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C:\Windows\system32\config\systemprofile\Desktop\край\img7.jpg"/>
          <p:cNvPicPr/>
          <p:nvPr/>
        </p:nvPicPr>
        <p:blipFill>
          <a:blip r:embed="rId2"/>
          <a:stretch/>
        </p:blipFill>
        <p:spPr>
          <a:xfrm>
            <a:off x="4835520" y="1714680"/>
            <a:ext cx="4022640" cy="24285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C:\Windows\system32\config\systemprofile\Desktop\край\img8.jpg"/>
          <p:cNvPicPr/>
          <p:nvPr/>
        </p:nvPicPr>
        <p:blipFill>
          <a:blip r:embed="rId3"/>
          <a:stretch/>
        </p:blipFill>
        <p:spPr>
          <a:xfrm>
            <a:off x="214200" y="4286160"/>
            <a:ext cx="3929040" cy="24242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C:\Windows\system32\config\systemprofile\Desktop\край\img9.jpg"/>
          <p:cNvPicPr/>
          <p:nvPr/>
        </p:nvPicPr>
        <p:blipFill>
          <a:blip r:embed="rId4"/>
          <a:stretch/>
        </p:blipFill>
        <p:spPr>
          <a:xfrm>
            <a:off x="4500720" y="4214880"/>
            <a:ext cx="4167000" cy="2423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9680" y="714240"/>
            <a:ext cx="81867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38086"/>
                </a:solidFill>
                <a:latin typeface="Trebuchet MS"/>
              </a:rPr>
              <a:t>Наш город- сегодня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7" name="Picture 4" descr="C:\Windows\system32\config\systemprofile\Desktop\край\img10.jpg"/>
          <p:cNvPicPr/>
          <p:nvPr/>
        </p:nvPicPr>
        <p:blipFill>
          <a:blip r:embed="rId1"/>
          <a:stretch/>
        </p:blipFill>
        <p:spPr>
          <a:xfrm>
            <a:off x="357120" y="1785960"/>
            <a:ext cx="4286160" cy="4071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C:\Windows\system32\config\systemprofile\Desktop\край\img14.jpg"/>
          <p:cNvPicPr/>
          <p:nvPr/>
        </p:nvPicPr>
        <p:blipFill>
          <a:blip r:embed="rId2"/>
          <a:stretch/>
        </p:blipFill>
        <p:spPr>
          <a:xfrm>
            <a:off x="4929120" y="1785960"/>
            <a:ext cx="4000680" cy="407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999720"/>
            <a:ext cx="82296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словарь русского языка С. И. Ожегова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«Краеведение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-изучение отдельных местностей страны с точки зрения их географических, культурно-исторических, экономических, этнографических особенностей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Факультатив предназначен для учащихся  7-8 класс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лавной целью данной Программы является -  систематизация и расширение представлений учащихся о своем крае, развитие чувства патриотиз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142920" y="1214280"/>
            <a:ext cx="914400" cy="655920"/>
          </a:xfrm>
          <a:custGeom>
            <a:avLst/>
            <a:gdLst>
              <a:gd name="textAreaLeft" fmla="*/ 122400 w 914400"/>
              <a:gd name="textAreaRight" fmla="*/ 792000 w 914400"/>
              <a:gd name="textAreaTop" fmla="*/ 114840 h 655920"/>
              <a:gd name="textAreaBottom" fmla="*/ 475560 h 65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add2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712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38086"/>
                </a:solidFill>
                <a:latin typeface="Trebuchet MS"/>
              </a:rPr>
              <a:t>ПАМЯТНИКИ ГОРОДА РУДНОГО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0" name="Picture 5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3786120" cy="2643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  <p:pic>
        <p:nvPicPr>
          <p:cNvPr id="291" name="Picture 6" descr=""/>
          <p:cNvPicPr/>
          <p:nvPr/>
        </p:nvPicPr>
        <p:blipFill>
          <a:blip r:embed="rId2"/>
          <a:stretch/>
        </p:blipFill>
        <p:spPr>
          <a:xfrm>
            <a:off x="5214960" y="1500120"/>
            <a:ext cx="3556080" cy="2500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  <p:sp>
        <p:nvSpPr>
          <p:cNvPr id="29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"/>
          <p:cNvPicPr/>
          <p:nvPr/>
        </p:nvPicPr>
        <p:blipFill>
          <a:blip r:embed="rId3"/>
          <a:stretch/>
        </p:blipFill>
        <p:spPr>
          <a:xfrm>
            <a:off x="428760" y="4143240"/>
            <a:ext cx="3768480" cy="2570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  <p:pic>
        <p:nvPicPr>
          <p:cNvPr id="294" name="Picture 10" descr=""/>
          <p:cNvPicPr/>
          <p:nvPr/>
        </p:nvPicPr>
        <p:blipFill>
          <a:blip r:embed="rId4"/>
          <a:stretch/>
        </p:blipFill>
        <p:spPr>
          <a:xfrm>
            <a:off x="5089680" y="4214880"/>
            <a:ext cx="3531960" cy="2643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</p:spTree>
  </p:cSld>
  <p:transition>
    <p:dissolv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6" name="Picture 11" descr="BINDERS"/>
          <p:cNvPicPr/>
          <p:nvPr/>
        </p:nvPicPr>
        <p:blipFill>
          <a:blip r:embed="rId1"/>
          <a:stretch/>
        </p:blipFill>
        <p:spPr>
          <a:xfrm>
            <a:off x="7786800" y="785880"/>
            <a:ext cx="780840" cy="1266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214200" y="571680"/>
            <a:ext cx="3143520" cy="2428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  <p:pic>
        <p:nvPicPr>
          <p:cNvPr id="298" name="Picture 6" descr=""/>
          <p:cNvPicPr/>
          <p:nvPr/>
        </p:nvPicPr>
        <p:blipFill>
          <a:blip r:embed="rId3"/>
          <a:stretch/>
        </p:blipFill>
        <p:spPr>
          <a:xfrm>
            <a:off x="5584680" y="642960"/>
            <a:ext cx="3559320" cy="271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  <p:pic>
        <p:nvPicPr>
          <p:cNvPr id="299" name="Picture 7" descr=""/>
          <p:cNvPicPr/>
          <p:nvPr/>
        </p:nvPicPr>
        <p:blipFill>
          <a:blip r:embed="rId4"/>
          <a:stretch/>
        </p:blipFill>
        <p:spPr>
          <a:xfrm>
            <a:off x="285840" y="3286080"/>
            <a:ext cx="3214440" cy="271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  <p:pic>
        <p:nvPicPr>
          <p:cNvPr id="300" name="Picture 8" descr=""/>
          <p:cNvPicPr/>
          <p:nvPr/>
        </p:nvPicPr>
        <p:blipFill>
          <a:blip r:embed="rId5"/>
          <a:stretch/>
        </p:blipFill>
        <p:spPr>
          <a:xfrm>
            <a:off x="3500280" y="571680"/>
            <a:ext cx="1932120" cy="3022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  <p:pic>
        <p:nvPicPr>
          <p:cNvPr id="301" name="Picture 4" descr=""/>
          <p:cNvPicPr/>
          <p:nvPr/>
        </p:nvPicPr>
        <p:blipFill>
          <a:blip r:embed="rId6"/>
          <a:stretch/>
        </p:blipFill>
        <p:spPr>
          <a:xfrm>
            <a:off x="5500800" y="3500280"/>
            <a:ext cx="3643200" cy="2732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dedede">
                <a:alpha val="50000"/>
              </a:srgbClr>
            </a:outerShdw>
          </a:effectLst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Спасибо за внимание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3" name="Прямоугольник 4"/>
          <p:cNvSpPr/>
          <p:nvPr/>
        </p:nvSpPr>
        <p:spPr>
          <a:xfrm>
            <a:off x="2786040" y="2643120"/>
            <a:ext cx="53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Вопросы есть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9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2960" y="7858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6064"/>
                </a:solidFill>
                <a:latin typeface="Trebuchet MS"/>
              </a:rPr>
              <a:t>ЦЕЛИ И ИДЕИ КУРС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28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ограмма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звана обеспечить ценностно-смысловую определенность нравственного и гражданско-патриотического воспита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едущая идея программы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общая культура личности, патриотизм, гражданственность должны стать важной движущей силой казахстанского общества, формирование национального самосознания школьник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26064"/>
                </a:solidFill>
                <a:latin typeface="Trebuchet MS"/>
              </a:rPr>
              <a:t>А.С.Барков писал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Краеведение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есть комплекс научных дисциплин, различных по содержанию и частным методам исследования, но ведущих в своей совокупности к научному и всестороннему познанию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края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999720"/>
            <a:ext cx="822960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краеведение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не только изучает,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о и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оценивает значительность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обытий, ценность памятников, красоту пейзажей,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выявляет общее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ля страны и края, а также особенные черты, присущие только ему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4" descr="j0301252"/>
          <p:cNvPicPr/>
          <p:nvPr/>
        </p:nvPicPr>
        <p:blipFill>
          <a:blip r:embed="rId1"/>
          <a:stretch/>
        </p:blipFill>
        <p:spPr>
          <a:xfrm>
            <a:off x="6286680" y="492912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071720"/>
            <a:ext cx="822960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вод :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«краеведение»-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это изучение своей «малой» Родины её природы, этнографии, материальной и духовной культуры, быта. Причем это не только предмет школьного образования, но и каждый уважающий себя человек должен знать о событиях, происходивших на его земл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438086"/>
                </a:solidFill>
                <a:uFillTx/>
                <a:latin typeface="Trebuchet MS"/>
              </a:rPr>
              <a:t>Предметом краеведческого исследования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500200"/>
            <a:ext cx="8229600" cy="40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ходе этого курса учащиеся познакомятся с историей города Рудного, растительным и животным миром, водными ресурсами родного края. Узнают так же об экологии, о памятниках истории и культуры,  об участниках боевых действий во время Великой Отечественной войны и в «горячих точках», о тружениках тыла, ветеранах труда, посетят городской музей истории и краеведен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38086"/>
                </a:solidFill>
                <a:latin typeface="Trebuchet MS"/>
              </a:rPr>
              <a:t>Образовательные задачи курса:</a:t>
            </a:r>
            <a:br>
              <a:rPr sz="5400"/>
            </a:b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знакомление с историей  малой родин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формирование  навыков исследовательской работы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владение навыками поисковой работы в Интернете и использование цифровых технологий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6" descr="j0234134"/>
          <p:cNvPicPr/>
          <p:nvPr/>
        </p:nvPicPr>
        <p:blipFill>
          <a:blip r:embed="rId1"/>
          <a:stretch/>
        </p:blipFill>
        <p:spPr>
          <a:xfrm>
            <a:off x="7453440" y="5143680"/>
            <a:ext cx="1369800" cy="1315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0:53:21Z</dcterms:created>
  <dc:creator>Admin</dc:creator>
  <dc:description/>
  <dc:language>en-US</dc:language>
  <cp:lastModifiedBy>User</cp:lastModifiedBy>
  <dcterms:modified xsi:type="dcterms:W3CDTF">2007-08-27T18:21:24Z</dcterms:modified>
  <cp:revision>102</cp:revision>
  <dc:subject/>
  <dc:title>КРАЕВЕДЕНИЕ</dc:title>
</cp:coreProperties>
</file>