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6CE2-3336-4B69-A917-7E9BC99E5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25BE-5DA5-4319-8073-1EFF16F6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E627-243B-4BCB-9FD6-BCFDB0FC9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EC4B-A86D-42CF-A0E3-6C757EE07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F499-A3BD-4D28-8FA4-A20AC88BA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A856-9E5B-4E3C-9684-003ACE6B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1520-E7A9-43C2-90A8-EB972BCC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7513-4100-477F-9B02-1F1E3DE0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891E-D48B-42A4-8D44-BEA7B47B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0C14-2F96-40AB-AD28-A5C6AB10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A2F5-83DF-42E4-9FCA-70A7E839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0D89-0FFD-431C-AD67-165E98B0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3D9D-5680-4FE8-8A2D-48A92B22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2E6A-3ED6-499E-BE34-31B0B2B8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CC44-B12C-406F-8429-2D3F9244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1DD6-DCA7-48E8-A92D-B458D46D1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0DC6-ED38-4A5D-99AE-7E2C80FD0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CA7896-5427-4F5C-BEA3-3D1223E50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05EA9E-85A9-4241-8D5D-D35E4953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0C2EF1-6A16-4AD1-B979-8AFDB383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C129F7-FDC9-4437-87A8-1693AF6B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C00CAC-60A9-4D99-BB79-657BB928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CA46-AEFA-4CCD-A5A6-E55F91B6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41913B-A0DD-4722-A3AF-35733C60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0BFEC6-8C26-4935-A536-4B96845C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C2C1C2-26AE-4EA2-B056-1C5194B2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07C534-D506-4C07-A92C-E44B1F55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8720B4-5F88-4DCF-9CB1-FD6BCC5F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7FC6BB-9661-447F-952B-5A03F7F4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04D13F-B0FF-4A69-8D5A-1F26A4D17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2B000A-73E2-40BB-B465-DC04D4F2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72ECAA-7D64-40C4-ADA7-FDAA6813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78BF32-2561-47FD-A966-BE82D8DE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7B30-02A1-4E76-AE1B-9A3D062A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4B2A44-BF51-4895-8496-A9868BC3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377C0E-F5AC-4BA1-9517-5B47D8CE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9B9D0F-DE1C-4FBE-839B-9B771B91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B3B427-4045-40A5-A596-1297A9E6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4428FC-DE3C-44B0-8993-BF71BAEE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DF8760-8F33-45B2-A871-8298FBE9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2A7C73-5E30-4C6E-9784-A363469D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3D922C-566F-481C-8846-41FDDBFB5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114F05-B3E2-4A65-A058-7E8763EB9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97D978-E9F6-40B8-8C1C-4A5F10277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31EB-7B45-43B8-BA0B-3FBEB18B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35CCC4-D7CA-45EF-8157-F6DCD4F4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222124-9022-478B-B0EB-A544A1E5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C0B43F-225F-474F-A4D3-F547FF71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B08D49-DCD3-493F-BF9F-6E6F2B7E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C9C4BB-E23B-4BCC-ACEB-618CEE30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3E8478-3ECE-4810-BAF1-B628EA5D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36B843-314A-4C2E-915F-885BCF3C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8875FD-55A6-4332-B3E7-23D303D8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A4BAC9-CBE4-4649-9069-67717132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BEBC03-1088-4974-AC84-0289A5E45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841C-1F98-43AD-BFE2-8D55097C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11BC05-6204-45FC-8377-97E5A062B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EE6B0-E52F-46E1-AB88-CEA12AF5F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97199-8EBA-43B7-9DE4-DB376D8D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7E30A-5B86-487C-B01E-1165FAE5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E3ED4-A7FF-45D0-BA52-73E8A3AF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B0BEC-36B6-405B-A610-B9DA7C02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71614-1D9E-47B9-9EC9-7F3A8C38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675BA-1F67-4385-8555-EE8D1F55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31ADD-21FD-4A4C-90F4-688D2A6E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EA088-E197-456B-93D0-93F7F171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A9FF-DA37-4BD0-9854-CA47983C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F419E-DFA6-45FF-B2FC-5F3E1C7B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6888D-2402-4E4C-9E67-DB82991DE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7A5BE-5B6A-4ABB-BDB1-D282AE285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DABBFA-0997-4FF5-A916-7A63BD2AE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46C3F4-0DAA-44B5-9EAC-95018B73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CC0E9D-5C7A-430F-85EE-AD9B72F6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3E83F1-4EA0-44DA-BE7D-D706506E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8A6D75-3F7D-4AE3-A659-78E70A31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6E8712-78FF-470D-BA04-D72BA6CD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C31531-D8C9-45E0-BE19-1A2DF84B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96A9-F172-4328-9213-38E48F26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58B63B-C1F3-40FA-A80C-69174C03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BE5C84-B215-4C8C-8634-6886EB7B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4A67D0-1A09-4864-86D6-88C1E465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F6F02E-5C8D-4C03-A53C-3D0F73F95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8750BB-50D8-440B-BEE3-FEC16899E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20D62-6A8C-452E-975E-28090C2FF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8FC0A-E17E-4B3F-B669-A96B8F1C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4E8B2-FD70-4C79-9A8F-677FCEA1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03538-C894-44AF-8AE1-37AC2D9A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0757C-CD79-4B33-84DE-A03E8076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B6A9-4086-46E0-97B5-EC69097E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54849-4B84-4E77-8B4B-2BF15FA1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DD28C-E18F-4465-B05E-DA345890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D4672-6327-429D-B1F7-E0CE51AE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0ECDA-D673-48BD-AFF8-E937AB2D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03021-EC94-4148-9B9F-D0068F29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5960D-F68E-4335-B2CB-3EFEE444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CB725-AE03-4B4F-AB8F-2D13DE41B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8BCB-B1F5-4FCD-BC00-38D7A1D606D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7F21-5908-4D41-A841-F0E6BCCA7BEC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6974-C28E-49EE-A6AA-EF08AE6B549F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F706-7C84-40B4-A6CD-73BFD5F8BE8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AA32-E7A2-4B3B-9AF1-A96EC388854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E644-60EA-481F-9384-1E3AAA85FF18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F328-E358-45F2-940E-5CB4124FC978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1EF3-FC7A-489C-B486-FA9C18A5A3E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bddc3"/>
                </a:solidFill>
                <a:latin typeface="Calibri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ПРОЕКТ ВОСПИТАТЕЛЬНОЙ СИСТЕМЫ 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                7 А КЛАССА                                               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        </a:t>
            </a:r>
            <a:r>
              <a:rPr b="1" lang="en-US" sz="4000" spc="-1" strike="noStrike">
                <a:solidFill>
                  <a:srgbClr val="7030a0"/>
                </a:solidFill>
                <a:latin typeface="Tw Cen MT"/>
              </a:rPr>
              <a:t>«</a:t>
            </a: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ЮНЫЙ РУДНИЧАНИН</a:t>
            </a:r>
            <a:r>
              <a:rPr b="1" lang="en-US" sz="4000" spc="-1" strike="noStrike">
                <a:solidFill>
                  <a:srgbClr val="7030a0"/>
                </a:solidFill>
                <a:latin typeface="Tw Cen MT"/>
              </a:rPr>
              <a:t>»</a:t>
            </a: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                                                                                              КЛАССНОГО РУКОВОДИТЕЛЯ БОНДАРЕНКО В.В.</a:t>
            </a: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           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ФОРМЫ РАБОТЫ</a:t>
            </a: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7030a0"/>
                </a:solidFill>
                <a:latin typeface="Calibri"/>
              </a:rPr>
              <a:t>Классные часы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7030a0"/>
                </a:solidFill>
                <a:latin typeface="Calibri"/>
              </a:rPr>
              <a:t>Беседы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7030a0"/>
                </a:solidFill>
                <a:latin typeface="Calibri"/>
              </a:rPr>
              <a:t>Интеллектуальные  турниры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7030a0"/>
                </a:solidFill>
                <a:latin typeface="Calibri"/>
              </a:rPr>
              <a:t>Праздники Здоровья и спорт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7030a0"/>
                </a:solidFill>
                <a:latin typeface="Calibri"/>
              </a:rPr>
              <a:t>Часы общени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7030a0"/>
                </a:solidFill>
                <a:latin typeface="Calibri"/>
              </a:rPr>
              <a:t>Конкурсы , викторины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7030a0"/>
                </a:solidFill>
                <a:latin typeface="Calibri"/>
              </a:rPr>
              <a:t>Работа с активом класс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7030a0"/>
                </a:solidFill>
                <a:latin typeface="Calibri"/>
              </a:rPr>
              <a:t>Тьюторская деятельность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solidFill>
            <a:srgbClr val="dbddc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Любовь. Доброта.Забота.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solidFill>
            <a:srgbClr val="c9cdb3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i="1" lang="ru-RU" sz="2900" spc="-1" strike="noStrike">
                <a:solidFill>
                  <a:srgbClr val="ff0000"/>
                </a:solidFill>
                <a:latin typeface="Calibri"/>
              </a:rPr>
              <a:t>Воспитание детей-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53880" indent="-247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рискованное дело, ибо в случае удачи 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	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	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	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	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последняя приобретена ценою большого труда и заботы, в 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	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	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	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	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	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	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случае же неудачи- горе несравнимо ни с каким другим 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53880" indent="-247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                                                                                                                                 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	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	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	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	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	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	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	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	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	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	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	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	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	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Демокрит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АКТУАЛЬНОСТЬ</a:t>
            </a:r>
            <a:r>
              <a:rPr b="1" lang="ru-RU" sz="2800" spc="-1" strike="noStrike">
                <a:solidFill>
                  <a:srgbClr val="775f55"/>
                </a:solidFill>
                <a:latin typeface="Calibri"/>
              </a:rPr>
              <a:t>  </a:t>
            </a:r>
            <a:r>
              <a:rPr b="0" lang="en-US" sz="2500" spc="-1" strike="noStrike">
                <a:solidFill>
                  <a:srgbClr val="775f55"/>
                </a:solidFill>
                <a:latin typeface="Tw Cen MT"/>
              </a:rPr>
              <a:t>только свободный человек с выбором для своего личностного развития может стать патриотом своей страны и гражданином мира. </a:t>
            </a:r>
            <a:br>
              <a:rPr sz="2500"/>
            </a:br>
            <a:br>
              <a:rPr sz="2800"/>
            </a:b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. 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40120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«Патриотическое воспитание – это систематическаяи целенаправленная деятельность по формированию у детей высокого патриотическосознания, чувства верности своему Отечеству, готовности к выполнению гражданского долга и конституционных обязанностей по защите интересов Родины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240120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Патриотическое воспитание направлено на формирование и развитие личности, обладающей качествами гражданина – патриота Родины и способной успешно выполнять гражданские обязанности в мирное и военное время»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Классный руководитель-учитель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28400" y="1356840"/>
            <a:ext cx="842940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Ключевой идеей воспитательной системы </a:t>
            </a:r>
            <a:r>
              <a:rPr b="1" lang="ru-RU" sz="2700" spc="-1" strike="noStrike">
                <a:solidFill>
                  <a:srgbClr val="7030a0"/>
                </a:solidFill>
                <a:latin typeface="Calibri"/>
              </a:rPr>
              <a:t>СОЦИАЛИЗАЦИЯ ЛИЧНОСТИ ОБУЧАЮЩЕГОСЯ</a:t>
            </a: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 через интеграцию обучения и воспитания, системообразующие виды деятельност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научно-исследовательскую деятельность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творческую деятельность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социальное проектировани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кружковую     деятельност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работу факультатив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самоуправлени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взаимодействие с социумо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ЦЕЛЬ ВОСПИТАТЕЛЬНОЙ РАБОТЫ</a:t>
            </a:r>
            <a:br>
              <a:rPr sz="1600"/>
            </a:b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Создание условий для разностороннего развития личности на основ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усвоения общечеловеческих ценностей; воспитание личности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обладающей чувством национальной гордости и гражданской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ответственности за свое будуще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ЗАДАЧИ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ть патриотические чувства и сознание граждан на основ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торических ценностей и роли России в судьбах мира, сохранять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вать чувства гордости за свою страну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собствовать развитию познавательных интересов учащих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спитывать у детей бережное отношение к родному учебном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ведению, а также любовь к родному городу, стра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4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действовать развитию культуры общения и формирован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уманных межличностных отнош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5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сно сотрудничать с родителями в деле воспитания и обучения де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Направления работы классного руководителя: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1. Гражданско-патриотическое. Эколого-краеведческое. Правовое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2. Здоровье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3. Интеллект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4. Нравственность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5. Досуг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6. Взаимодействие. Формирование коллектив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7. Семь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Воспитательный процесс направлен на: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рганизацию многообразной и разносторонней деятельности  воспитанников и обучающихся, включение в процесс педагогов и родителей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щение со сверстниками и взрослыми из окружающего социум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ормирование общественно   значимых качеств личност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ормирование правильного отношения к окружающему миру, природе, людям, науке, культуре, здоровому образу жизн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зучение уровня воспитанности  дет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В  З  А  И  М  О  Д  Е  Й  С  Т  В И  Е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равила успешного взаимодействия классного руководителя и ученика, родителей и дете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00000"/>
                </a:solidFill>
                <a:latin typeface="Calibri"/>
              </a:rPr>
              <a:t>Правило1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 Всякое взаимодействие должно быть неформальны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00000"/>
                </a:solidFill>
                <a:latin typeface="Calibri"/>
              </a:rPr>
              <a:t>Правило 2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 Взаимодействие должно демонстрировать личную заинтересованность взрослого и будить заинтересованность ребенк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00000"/>
                </a:solidFill>
                <a:latin typeface="Calibri"/>
              </a:rPr>
              <a:t>Правило 3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 Взаимодействие должно быть справедливым и объективны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00000"/>
                </a:solidFill>
                <a:latin typeface="Calibri"/>
              </a:rPr>
              <a:t>Правило 4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 Взаимодействие должно давать шанс на перспектив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2T17:24:55Z</dcterms:created>
  <dc:creator>Администратор</dc:creator>
  <dc:description/>
  <dc:language>en-US</dc:language>
  <cp:lastModifiedBy>Пользователь</cp:lastModifiedBy>
  <dcterms:modified xsi:type="dcterms:W3CDTF">2015-10-26T13:01:52Z</dcterms:modified>
  <cp:revision>23</cp:revision>
  <dc:subject/>
  <dc:title>    Проект воспитательной системы  5 а класса                                                «Юный рудничанин»                                                                                               классного руководителя Бондаренко В.В.</dc:title>
</cp:coreProperties>
</file>