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557-00FC-42E8-A190-DA82B8EA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15C-D2BC-49A7-BC73-0109E948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0FA-695D-4681-80C7-9E5EBE27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D7D-4976-4787-866A-212F1034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FD05-1123-4C37-B486-4BD0938C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B213-D7B3-4EDF-BD56-2A952FEF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631A-F412-47B3-A153-ECDD75B5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1888-F4BF-4D83-BE99-F0D69D9A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1D33-B8C1-4B3E-BD58-09E587B5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E6AD-6C78-435B-A24A-B836174B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CFD0-F867-4AD2-A834-A7BADE11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6D79-F40E-4C82-A47C-71F8A061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5478-AD21-4C11-90DE-1E646D70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B83C-A307-4991-8C49-50D99450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10BD-CF57-47B7-9180-971BE517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6124-B7FE-4D54-A87A-C909290F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CDF5-2FCB-4B70-A7D2-498E7550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2752F-F709-4325-81BF-AF59D51F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46590-D4AC-432F-9850-A38DDDFD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22C6F-5F83-4B59-AC26-3E301427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108D3-67E2-4347-8C15-6AFC0AA7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C9E21-FA33-4A23-9416-FD63804D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839-A674-4D50-B423-5AB5D124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2596E-16D6-4B67-800F-33ECC3FF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ADB0C-B2F7-400D-98EE-170B236E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57C61-64F0-4CDC-A146-717CDE9D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DA127-2091-41E2-AB6D-92AD88DB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2BDCB-08AC-45B3-BABE-FA80EA0F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488FC-3C02-4524-8897-2DB024DB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62BF8-3CD7-4025-9934-5A5B113B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41E7CF-513B-41E7-B833-756CA15C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D7355D-CDD3-4C7C-9B16-E347CB09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5B851-8EB7-4132-A685-9E05AB80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50B-C648-4486-9A1C-4FE88C73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A7F0F4-FED1-4638-ACF4-BB773FF8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22D87-5BF5-458B-8533-9F60BEFA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45E9A-60B7-42A3-86FA-A637ECC9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CC688C-B440-446A-B07C-EA596E0A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B42A9F-EDC6-4A69-A5AE-592FAF05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548E41-72B2-4A3D-8EDA-85F4F415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E60DB-72D0-4961-968C-D804156D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C374A-A018-457B-9281-7E970D08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1343B-6E0B-4F93-87C1-6EC8575B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DDF04-A177-4E37-BF69-B10F97C7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086-5F12-43E9-B29D-880F9940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37E61C-1A7F-482B-98D2-EF88127A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4E08C-4252-48EE-90D2-453C3B16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81C2E-E38E-442F-AC81-8E152986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D3F15-82AC-40A5-B88A-F2B60A15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DEA5C-FCE0-420C-8E4A-6975120B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36321A-DCD5-454E-B1B6-1033F71B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F2038-BCF5-4739-958A-16D96241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5F688-87B5-4AD9-BC82-E21216D7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41FA5-BED4-49F6-AE77-70ABA971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959FA7-727D-4365-B767-22C8D74A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23D-1E22-4FE2-A013-66454C48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2A480-B247-4703-9626-8E935FFB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13772-EABB-4D1B-A876-5AB7BC35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A39AB-E3BE-47A1-BD00-E9B42AC2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68E4D-6219-44A5-AD0C-661AB44D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3566D-E7C9-45EE-A428-FC3D6CF7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DAADA-4D29-4BDE-BF74-ED71C9F6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51516-B04C-447E-84D6-AA047FD5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288C8-D342-496C-B573-B1C56351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383E6-7B22-4260-A1B4-527F87A8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A96F2-E76B-4724-8B28-73B13316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DC5E-802A-493B-BCFE-B7768C22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7F145-D27E-46E7-AA5E-DDA3EB4C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9C8D7-D1A4-42F3-9762-67581658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FDC00-7063-4D83-8894-5F456569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AE2C97-982A-42B7-A59B-EE3676F1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EE2A0-CB8F-4D24-AA6F-FC71E19A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1C8DC9-70A3-4789-9D02-9C34DFBD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C3A91F-4ADA-4CD1-B733-2C115006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1E641-4341-4227-B379-C84B3AB6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4B0B7E-6621-490E-8A36-4F99D109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C1167E-2A02-4D47-A115-F8494F91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C12-676D-4E6E-9A74-2AA3C5F3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5B24F-FF68-40C5-9E13-1FFA5A30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69CD0A-9680-4C35-9806-EF3D9C95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7742D3-E1C3-4C2C-B1B5-38F90D6E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549AD1-5C8A-45F4-B3D3-F88A0E00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4DF6EA-6DA5-432E-AEE8-E6824E20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9DA62-C2F1-4A24-B87C-26944F9E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14C83-FFFB-471C-9884-25232077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2F480-67CB-4E2F-ACE2-F6673F95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74E7D-1270-46E7-87B0-93AEEDE8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466B2-FC5A-4C97-8DF4-BCFDF6C1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F3D-F2F0-402D-B9A8-B6A12AF0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BA966-3446-414D-93EF-24AABAD8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47D3F-8042-443C-8BB8-AFB24AA7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CC33F-29D1-4B9A-8E8D-F55F5039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029CA-917D-4C3C-BC1D-664C853A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344D0-9406-46F2-9C14-57D778CC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2549B-2002-40E9-9427-6804C87B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0920B-02EF-463F-BD7B-81879FD6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591C-53CB-4433-A703-3052E1E487E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9F40-2041-4C3A-B8AC-915CE2FF584B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8045-18A2-45C1-953D-7003E3CB01F0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B588-B754-495D-B448-47E43C5F87F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04A8-4F52-4350-86FF-576ADBB6364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4E50-D7A9-4F0F-98D8-F4958ECB3076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4F15-5174-41BF-817E-97373319A510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56F0-A5CA-4628-ACBE-A82CFCF3544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dc3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РОЕКТ ВОСПИТАТЕЛЬНОЙ СИСТЕМЫ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                7 А КЛАССА                                              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        </a:t>
            </a: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«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ЮНЫЙ РУДНИЧАНИН</a:t>
            </a: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»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                                                                                              КЛАССНОГО РУКОВОДИТЕЛЯ БОНДАРЕНКО В.В.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          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ФОРМЫ РАБОТЫ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Классные час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Бесед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Интеллектуальные  турнир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Праздники Здоровья и спорт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Часы общ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Конкурсы , виктори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Работа с активом класс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Тьюторская деятельност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dbdd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Любовь. Доброта.Забота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c9cdb3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2900" spc="-1" strike="noStrike">
                <a:solidFill>
                  <a:srgbClr val="ff0000"/>
                </a:solidFill>
                <a:latin typeface="Calibri"/>
              </a:rPr>
              <a:t>Воспитание детей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рискованное дело, ибо в случае удачи 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последняя приобретена ценою большого труда и заботы, в 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случае же неудачи- горе несравнимо ни с каким другим 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                                                                                                                                 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	</a:t>
            </a:r>
            <a:r>
              <a:rPr b="0" i="1" lang="ru-RU" sz="2900" spc="-1" strike="noStrike">
                <a:solidFill>
                  <a:srgbClr val="355d7e"/>
                </a:solidFill>
                <a:latin typeface="Calibri"/>
              </a:rPr>
              <a:t>Демокрит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КТУАЛЬНОСТЬ</a:t>
            </a:r>
            <a:r>
              <a:rPr b="1" lang="ru-RU" sz="2800" spc="-1" strike="noStrike">
                <a:solidFill>
                  <a:srgbClr val="775f55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775f55"/>
                </a:solidFill>
                <a:latin typeface="Tw Cen MT"/>
              </a:rPr>
              <a:t>только свободный человек с выбором для своего личностного развития может стать патриотом своей страны и гражданином мира. </a:t>
            </a:r>
            <a:br>
              <a:rPr sz="2500"/>
            </a:br>
            <a:br>
              <a:rPr sz="28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«Патриотическое воспитание – это систематическаяи целенаправленная деятельность по формированию у детей высокого патриотическосознания, чувства верности своему Отечеству, готовности к выполнению гражданского долга и конституционных обязанностей по защите интересов Родин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40120">
              <a:lnSpc>
                <a:spcPct val="9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Патриотическое воспитание направлено на формирование и развитие личности, обладающей качествами гражданина – патриота Родины и способной успешно выполнять гражданские обязанности в мирное и военное время»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Классный руководитель-учител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8400" y="1356840"/>
            <a:ext cx="84294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Ключевой идеей воспитательной системы </a:t>
            </a:r>
            <a:r>
              <a:rPr b="1" lang="ru-RU" sz="2700" spc="-1" strike="noStrike">
                <a:solidFill>
                  <a:srgbClr val="7030a0"/>
                </a:solidFill>
                <a:latin typeface="Calibri"/>
              </a:rPr>
              <a:t>СОЦИАЛИЗАЦИЯ ЛИЧНОСТИ ОБУЧАЮЩЕГОСЯ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через интеграцию обучения и воспитания, системообразующие виды деятельност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научно-исследовательскую деятельность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творческую деятельность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социальное проектирова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кружковую     деятельно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работу факультатив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самоуправле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взаимодействие с социум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ЦЕЛЬ ВОСПИТАТЕЛЬНОЙ РАБОТЫ</a:t>
            </a:r>
            <a:br>
              <a:rPr sz="1600"/>
            </a:b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Создание условий для разностороннего развития личности на основ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усвоения общечеловеческих ценностей; воспитание личности,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обладающей чувством национальной гордости и гражданско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ответственности за свое будуще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ДАЧИ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ть патриотические чувства и сознание граждан на осно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орических ценностей и роли России в судьбах мира, сохранять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чувства гордости за свою страну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собствовать развитию познавательных интересов уча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ывать у детей бережное отношение к родному учебно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ведению, а также любовь к родному городу,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йствовать развитию культуры общения и формиров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уманных межличностных отно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сно сотрудничать с родителями в деле воспитания и обучения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аправления работы классного руководителя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. Гражданско-патриотическое. Эколого-краеведческое. Правово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2. Здоровь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3. Интеллект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4. Нравственность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5. Досуг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6. Взаимодействие. Формирование коллекти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7. Семь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Воспитательный процесс направлен на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рганизацию многообразной и разносторонней деятельности  воспитанников и обучающихся, включение в процесс педагогов и родител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щение со сверстниками и взрослыми из окружающего социум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ирование общественно   значимых качеств личнос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ормирование правильного отношения к окружающему миру, природе, людям, науке, культуре, здоровому образу жизн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зучение уровня воспитанности 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  З  А  И  М  О  Д  Е  Й  С  Т  В И  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авила успешного взаимодействия классного руководителя и ученика, родителей и дет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Правило1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Всякое взаимодействие должно быть неформальны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Правило 2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Взаимодействие должно демонстрировать личную заинтересованность взрослого и будить заинтересованность ребен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Правило 3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Взаимодействие должно быть справедливым и объективны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Calibri"/>
              </a:rPr>
              <a:t>Правило 4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Взаимодействие должно давать шанс на перспектив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00"/>
              </a:spcBef>
              <a:buClr>
                <a:srgbClr val="a5ab81"/>
              </a:buClr>
              <a:buSzPct val="6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2T17:24:55Z</dcterms:created>
  <dc:creator>Администратор</dc:creator>
  <dc:description/>
  <dc:language>en-US</dc:language>
  <cp:lastModifiedBy>Пользователь</cp:lastModifiedBy>
  <dcterms:modified xsi:type="dcterms:W3CDTF">2015-10-26T13:01:52Z</dcterms:modified>
  <cp:revision>23</cp:revision>
  <dc:subject/>
  <dc:title>    Проект воспитательной системы  5 а класса                                                «Юный рудничанин»                                                                                               классного руководителя Бондаренко В.В.</dc:title>
</cp:coreProperties>
</file>