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4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0F74-F95A-4541-B176-0D19172120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454-BCEF-4189-B3E2-3BF2002F9F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EAE-1FE2-43A3-9131-EFEEF7EC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ABA-8A0E-4038-9238-59AB671E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8AA-6520-4843-A098-6DB7B5AD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B68-08BB-464B-B86E-673ADA2F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C38F-8F72-402E-9ACC-AF1A58D2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BDFA-AA42-4E70-A2BA-88347F7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62EE-239D-4010-A827-856D38A3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99F4-8286-40F8-9308-51F38984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0906-BBE0-4BF9-B0EE-A155C66F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97AA-B16C-4736-A7CF-20B60B2D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2892-7FA7-4093-98F3-08390E2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EDF-28F4-4F94-BFF2-DAE2399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5743-8B83-4C3A-94D8-6D57553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11E-A96E-4E94-BA18-ACF9143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4B16-2D72-4AA5-9FD7-00DA46C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7AB5-53E0-4004-A59A-4710AAA9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B526-4A77-4471-99C9-CE237E51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77ADC-CE01-4D36-8E8E-D2A0D34D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05D0F-824C-4ABB-8755-42ADB875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FC25B-ABE6-43A7-9268-2945B06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DB378-E01D-4DDE-BA40-C71464D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FC4E3-312E-4218-AEA6-F07BC1A8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A05-F96F-4777-ADEC-6F9B18A7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C0231-3AE1-42A0-A458-BF5D9EC2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FE822-40EE-485D-AA13-0EEE8856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EFB66-D8C2-4D89-AAC3-F9ED7048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96B9F-FB34-4AFB-B186-193E69E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0CB79-F8D6-4A5B-9B0B-C80FD73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59DA7-8BBB-4C6C-B781-5046B5B8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A8D83-F212-4D50-9587-E2B5559A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8F6D-576D-4B59-B53D-42F4AC38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D054D-2D4C-43BF-A1D2-A368F47F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431D-3B7C-4117-854D-C621DE88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BD9-2F71-41B4-8E98-4EFDD989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DF37-BE08-49F7-A37E-DD14B65E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33ECD-3FB3-4064-9CA5-0CAA9342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55D2-1DE4-403B-AEDC-F9A9D0F8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B25B-1AFB-46F9-8DCF-71D9F531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E595-4BFD-4502-880F-20C35F9E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F67F3-F908-40B7-B5F2-0122FCF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F7E79-5C20-4B91-84B2-23D84C93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8450C-2C5F-4543-81EC-D8F504FD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65E1-8A33-4527-9B7E-28D0ABFE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50E-8E6C-440D-85E4-E82328DE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029-3A64-4A87-8C31-E5CB2C64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2FC-903A-496B-9967-FE0678B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7C6-1DE7-4546-892B-FB58D84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D61-CE52-480D-8A2A-27030A5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B630-6325-48FE-96AA-BF9BAD8E6BA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30B4-FCAE-450D-A31A-44162213E5C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5768-8FCF-45F6-8065-2A872C91950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C01-8C71-4F7A-8068-475D0BDBCF4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ikhail_Lomonoso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esus.pnz.ru/Oboi/4/4mud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845820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c000"/>
                </a:solidFill>
                <a:latin typeface="Trebuchet MS"/>
              </a:rPr>
              <a:t>КРАЕВЕДЕНИЕ</a:t>
            </a:r>
            <a:br>
              <a:rPr sz="8000"/>
            </a:br>
            <a:r>
              <a:rPr b="1" lang="ru-RU" sz="8000" spc="-1" strike="noStrike">
                <a:solidFill>
                  <a:srgbClr val="ffc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Trebuchet MS"/>
              </a:rPr>
              <a:t>как источник патриотических идей воспита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064"/>
                </a:solidFill>
                <a:latin typeface="Georgia"/>
              </a:rPr>
              <a:t>Бондаренко  В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064"/>
                </a:solidFill>
                <a:latin typeface="Georgia"/>
              </a:rPr>
              <a:t>Учитель истории  КГУ «Средняя школа  №1»  акимата города  Рудног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2" descr="D:\Оксана документы\Краеведение\logik000.gif"/>
          <p:cNvPicPr/>
          <p:nvPr/>
        </p:nvPicPr>
        <p:blipFill>
          <a:blip r:embed="rId1"/>
          <a:stretch/>
        </p:blipFill>
        <p:spPr>
          <a:xfrm>
            <a:off x="5715000" y="40719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714240"/>
            <a:ext cx="73915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i="1" lang="ru-RU" sz="4800" spc="-1" strike="noStrike">
                <a:solidFill>
                  <a:srgbClr val="438086"/>
                </a:solidFill>
                <a:latin typeface="Trebuchet MS"/>
              </a:rPr>
              <a:t>Воспитательные задачи: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чувства гражданственности и патриотизма, гордости  за свою Родину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активной жизненной позиц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глубление и систематизация знаний о своей семь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 обучающихся  на положительном примере  жизни  и  деятельности   земляков, понимания ценности и значимости каждой человеческой жизн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 гордости  и  уважения  к  живущим  рядом  ветеранам  войны  и 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бережного отношения к природ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чувства личной ответственности за всё происходящее в окружающем мире, потребность быть деятельным соучастником в общественной, учебной, трудовой и досуговой сферах жизн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15" descr="Mikhail_Lomonos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34320" y="0"/>
            <a:ext cx="130968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38086"/>
                </a:solidFill>
                <a:latin typeface="Georgia"/>
              </a:rPr>
              <a:t>Развивающие задачи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ширять знания учащихся по краеведению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витие познавательного интереса, интеллектуальных и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имулирование стремления знать как можно больше о родном крае и его людях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витие способности к творчеству, овладению и стремлению  самостоятельно добывать новые зна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85520" y="857160"/>
            <a:ext cx="790092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38086"/>
                </a:solidFill>
                <a:latin typeface="Georgia"/>
              </a:rPr>
              <a:t>Направленность программы</a:t>
            </a:r>
            <a:r>
              <a:rPr b="0" lang="ru-RU" sz="44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патриотического сознания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гражданского поведения и правовой культур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коммуникативной культур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опыта творческой, учебно-исследовательской деятельнос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опыта социально-значимой деятельно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99972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8086"/>
                </a:solidFill>
                <a:latin typeface="Georgia"/>
              </a:rPr>
              <a:t>Методические приемы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новными методическими приемами являются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сследовательская деятельност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исковая деятельност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рганизационная деятельность (организация и проведение экскурсий, праздников, конкурсов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ндивидуальная работа с учащимис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9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СОДЕРЖАНИЕ  КУРСА</a:t>
            </a:r>
            <a:br>
              <a:rPr sz="4000"/>
            </a:b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1.  Природа родного края </a:t>
            </a:r>
            <a:br>
              <a:rPr sz="4400"/>
            </a:b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2. «Родословная»</a:t>
            </a:r>
            <a:br>
              <a:rPr sz="4400"/>
            </a:b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3. «История родного края»</a:t>
            </a:r>
            <a:br>
              <a:rPr sz="4400"/>
            </a:b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4. Творческая работа 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 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МУЗЕИ И ИХ РОЛЬ В ИЗУЧЕНИИ                 ИСТОРИИ КРАЯ«</a:t>
            </a:r>
            <a:r>
              <a:rPr b="1" lang="ru-RU" sz="2800" spc="-1" strike="noStrike">
                <a:solidFill>
                  <a:srgbClr val="438086"/>
                </a:solidFill>
                <a:latin typeface="Trebuchet MS"/>
              </a:rPr>
              <a:t>Главное призвание музея – это сделать так, чтобы все, что там собрано, стало достоянием народа»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Picture 4" descr="C:\Windows\system32\config\systemprofile\Desktop\край\kraeved-2017-03.jpg"/>
          <p:cNvPicPr/>
          <p:nvPr/>
        </p:nvPicPr>
        <p:blipFill>
          <a:blip r:embed="rId1"/>
          <a:stretch/>
        </p:blipFill>
        <p:spPr>
          <a:xfrm>
            <a:off x="214200" y="3214800"/>
            <a:ext cx="464364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system32\config\systemprofile\Desktop\край\kraeved-2017-04.jpg"/>
          <p:cNvPicPr/>
          <p:nvPr/>
        </p:nvPicPr>
        <p:blipFill>
          <a:blip r:embed="rId2"/>
          <a:stretch/>
        </p:blipFill>
        <p:spPr>
          <a:xfrm>
            <a:off x="4888080" y="3214800"/>
            <a:ext cx="416556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 u="sng">
              <a:solidFill>
                <a:srgbClr val="424456"/>
              </a:solidFill>
              <a:uFillTx/>
              <a:latin typeface="Trebuchet MS"/>
            </a:endParaRPr>
          </a:p>
        </p:txBody>
      </p:sp>
      <p:pic>
        <p:nvPicPr>
          <p:cNvPr id="253" name="Picture 4" descr="C:\Windows\system32\config\systemprofile\Desktop\край\kraeved-2017-05.jpg"/>
          <p:cNvPicPr/>
          <p:nvPr/>
        </p:nvPicPr>
        <p:blipFill>
          <a:blip r:embed="rId1"/>
          <a:stretch/>
        </p:blipFill>
        <p:spPr>
          <a:xfrm>
            <a:off x="285840" y="107172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Windows\system32\config\systemprofile\Desktop\край\kraeved-2017-06.jpg"/>
          <p:cNvPicPr/>
          <p:nvPr/>
        </p:nvPicPr>
        <p:blipFill>
          <a:blip r:embed="rId2"/>
          <a:stretch/>
        </p:blipFill>
        <p:spPr>
          <a:xfrm>
            <a:off x="4143240" y="3500280"/>
            <a:ext cx="4756320" cy="28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38086"/>
                </a:solidFill>
                <a:uFillTx/>
                <a:latin typeface="Trebuchet MS"/>
              </a:rPr>
              <a:t>Краеведческий музей г. Лисаковск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4" descr="C:\Windows\system32\config\systemprofile\Desktop\2015 год\Фото-0109.jpg"/>
          <p:cNvPicPr/>
          <p:nvPr/>
        </p:nvPicPr>
        <p:blipFill>
          <a:blip r:embed="rId1"/>
          <a:stretch/>
        </p:blipFill>
        <p:spPr>
          <a:xfrm>
            <a:off x="357120" y="2249640"/>
            <a:ext cx="3286080" cy="4324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786200" y="2046240"/>
            <a:ext cx="3554640" cy="459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38086"/>
                </a:solidFill>
                <a:uFillTx/>
                <a:latin typeface="Trebuchet MS"/>
              </a:rPr>
              <a:t>Краеведческий музей г. Рудног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4786200" y="2214720"/>
            <a:ext cx="4071960" cy="3357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4286160" cy="3643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38086"/>
                </a:solidFill>
                <a:uFillTx/>
                <a:latin typeface="Trebuchet MS"/>
              </a:rPr>
              <a:t>Коллаж (творческая работа)</a:t>
            </a:r>
            <a:br>
              <a:rPr sz="3200"/>
            </a:br>
            <a:r>
              <a:rPr b="1" lang="ru-RU" sz="3200" spc="-1" strike="noStrike" u="sng">
                <a:solidFill>
                  <a:srgbClr val="438086"/>
                </a:solidFill>
                <a:uFillTx/>
                <a:latin typeface="Trebuchet MS"/>
              </a:rPr>
              <a:t>Мой родной город Рудны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070000" y="1428840"/>
            <a:ext cx="5430960" cy="514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33436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rebuchet MS"/>
              </a:rPr>
              <a:t>СОДЕРЖАНИЕ, ФОРМЫ И МЕТОДЫ ФАКУЛЬТАТИВНОГО КУРСА  «КРАЕВЕДЕНИЕ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655200" y="526680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26" name="Picture 4" descr="Мудрос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4064040"/>
            <a:ext cx="3708360" cy="2793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-1573200" y="74880"/>
            <a:ext cx="122904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целью данной Программы является -  систематизация и расширение представлений учащихся о своем крае, развитие чувства патриотизм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22360" y="785880"/>
            <a:ext cx="7718400" cy="5788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38086"/>
                </a:solidFill>
                <a:latin typeface="Georgia"/>
              </a:rPr>
              <a:t> </a:t>
            </a:r>
            <a:r>
              <a:rPr b="1" lang="ru-RU" sz="4400" spc="-1" strike="noStrike">
                <a:solidFill>
                  <a:srgbClr val="438086"/>
                </a:solidFill>
                <a:latin typeface="Georgia"/>
              </a:rPr>
              <a:t>Экскурсия в  городской краеведческий музей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8086"/>
                </a:solidFill>
                <a:latin typeface="Georgia"/>
              </a:rPr>
              <a:t>«С чего начинался наш город?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Здесь все дышит историей. Историей наших карьеров, наших месторождений, историей человека, прежде всего. Мы показываем все эти достижения через людей. Они были первым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143920" cy="5573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Этапы большого пути город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7643520" cy="471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История нашего города Рудног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Picture 5" descr="C:\Windows\system32\config\systemprofile\Desktop\край\img2.jpg"/>
          <p:cNvPicPr/>
          <p:nvPr/>
        </p:nvPicPr>
        <p:blipFill>
          <a:blip r:embed="rId1"/>
          <a:stretch/>
        </p:blipFill>
        <p:spPr>
          <a:xfrm>
            <a:off x="428760" y="1214280"/>
            <a:ext cx="3724200" cy="242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Windows\system32\config\systemprofile\Desktop\край\img3.jpg"/>
          <p:cNvPicPr/>
          <p:nvPr/>
        </p:nvPicPr>
        <p:blipFill>
          <a:blip r:embed="rId2"/>
          <a:stretch/>
        </p:blipFill>
        <p:spPr>
          <a:xfrm>
            <a:off x="4786200" y="1214280"/>
            <a:ext cx="3500640" cy="2500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C:\Windows\system32\config\systemprofile\Desktop\край\img4.jpg"/>
          <p:cNvPicPr/>
          <p:nvPr/>
        </p:nvPicPr>
        <p:blipFill>
          <a:blip r:embed="rId3"/>
          <a:stretch/>
        </p:blipFill>
        <p:spPr>
          <a:xfrm>
            <a:off x="428760" y="3929040"/>
            <a:ext cx="3643200" cy="272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C:\Windows\system32\config\systemprofile\Desktop\край\img5.jpg"/>
          <p:cNvPicPr/>
          <p:nvPr/>
        </p:nvPicPr>
        <p:blipFill>
          <a:blip r:embed="rId4"/>
          <a:stretch/>
        </p:blipFill>
        <p:spPr>
          <a:xfrm>
            <a:off x="4572000" y="4000680"/>
            <a:ext cx="392904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Исследовательская деяте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15160" cy="493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Научно-исследовательская рабо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Путешественники и путешествия: </a:t>
            </a:r>
            <a:br>
              <a:rPr sz="2800"/>
            </a:b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из истории географических и геологических исследований в 13-20 вв. на территории современной Костанайской обла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Исполнитель : Шаяхметова Диляра </a:t>
            </a:r>
            <a:br>
              <a:rPr sz="1100"/>
            </a:b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Учащаяся 7 класса «А» </a:t>
            </a:r>
            <a:br>
              <a:rPr sz="1100"/>
            </a:b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КГУ «Средняя  школа № 1 </a:t>
            </a:r>
            <a:br>
              <a:rPr sz="1100"/>
            </a:b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акимата города Рудного»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1" descr="C:\Windows\System32\config\systemprofile\Downloads\reka_Tobol_photographiya_1.jpg"/>
          <p:cNvPicPr/>
          <p:nvPr/>
        </p:nvPicPr>
        <p:blipFill>
          <a:blip r:embed="rId1"/>
          <a:stretch/>
        </p:blipFill>
        <p:spPr>
          <a:xfrm>
            <a:off x="2643120" y="4000680"/>
            <a:ext cx="271476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8" name="Picture 2" descr="C:\Windows\System32\config\systemprofile\Downloads\0_97d64_85311a65_XL.jpg"/>
          <p:cNvPicPr/>
          <p:nvPr/>
        </p:nvPicPr>
        <p:blipFill>
          <a:blip r:embed="rId2"/>
          <a:stretch/>
        </p:blipFill>
        <p:spPr>
          <a:xfrm>
            <a:off x="5786280" y="4071960"/>
            <a:ext cx="30006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Актуальность работы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рритория нашей области часто становилась объектом исследований ученых и путешественников разных стран. Их записи, собранные сведения имеют огромную историческую и  этнографическую ценность. Природа области, легенды народа, загадки прошлого вызывали у посетивших наш край неподдельный интерес и желание познать как можно больш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ИСТОРИЯ И СОВРЕМ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2" name="Picture 4" descr="C:\Windows\system32\config\systemprofile\Desktop\край\img6.jpg"/>
          <p:cNvPicPr/>
          <p:nvPr/>
        </p:nvPicPr>
        <p:blipFill>
          <a:blip r:embed="rId1"/>
          <a:stretch/>
        </p:blipFill>
        <p:spPr>
          <a:xfrm>
            <a:off x="0" y="1357200"/>
            <a:ext cx="4156200" cy="2714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Windows\system32\config\systemprofile\Desktop\край\img7.jpg"/>
          <p:cNvPicPr/>
          <p:nvPr/>
        </p:nvPicPr>
        <p:blipFill>
          <a:blip r:embed="rId2"/>
          <a:stretch/>
        </p:blipFill>
        <p:spPr>
          <a:xfrm>
            <a:off x="4835520" y="1714680"/>
            <a:ext cx="4022640" cy="2428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Windows\system32\config\systemprofile\Desktop\край\img8.jpg"/>
          <p:cNvPicPr/>
          <p:nvPr/>
        </p:nvPicPr>
        <p:blipFill>
          <a:blip r:embed="rId3"/>
          <a:stretch/>
        </p:blipFill>
        <p:spPr>
          <a:xfrm>
            <a:off x="214200" y="4286160"/>
            <a:ext cx="3929040" cy="2424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C:\Windows\system32\config\systemprofile\Desktop\край\img9.jpg"/>
          <p:cNvPicPr/>
          <p:nvPr/>
        </p:nvPicPr>
        <p:blipFill>
          <a:blip r:embed="rId4"/>
          <a:stretch/>
        </p:blipFill>
        <p:spPr>
          <a:xfrm>
            <a:off x="4500720" y="4214880"/>
            <a:ext cx="4167000" cy="24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9680" y="714240"/>
            <a:ext cx="8186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8086"/>
                </a:solidFill>
                <a:latin typeface="Trebuchet MS"/>
              </a:rPr>
              <a:t>Наш город- сегодн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Picture 4" descr="C:\Windows\system32\config\systemprofile\Desktop\край\img10.jpg"/>
          <p:cNvPicPr/>
          <p:nvPr/>
        </p:nvPicPr>
        <p:blipFill>
          <a:blip r:embed="rId1"/>
          <a:stretch/>
        </p:blipFill>
        <p:spPr>
          <a:xfrm>
            <a:off x="357120" y="1785960"/>
            <a:ext cx="4286160" cy="4071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C:\Windows\system32\config\systemprofile\Desktop\край\img14.jpg"/>
          <p:cNvPicPr/>
          <p:nvPr/>
        </p:nvPicPr>
        <p:blipFill>
          <a:blip r:embed="rId2"/>
          <a:stretch/>
        </p:blipFill>
        <p:spPr>
          <a:xfrm>
            <a:off x="4929120" y="1785960"/>
            <a:ext cx="4000680" cy="407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99972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ловарь русского языка С. И. Ожегова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Краеведени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изучение отдельных местностей страны с точки зрения их географических, культурно-исторических, экономических, этнографических особенностей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акультатив предназначен для учащихся  7-8 класс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ой целью данной Программы является -  систематизация и расширение представлений учащихся о своем крае, развитие чувства патрио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142920" y="1214280"/>
            <a:ext cx="914400" cy="655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114840 h 655920"/>
              <a:gd name="textAreaBottom" fmla="*/ 475560 h 6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dd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ПАМЯТНИКИ ГОРОДА РУДНОГ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786120" cy="2643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556080" cy="2500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sp>
        <p:nvSpPr>
          <p:cNvPr id="29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28760" y="4143240"/>
            <a:ext cx="3768480" cy="257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4" name="Picture 10" descr=""/>
          <p:cNvPicPr/>
          <p:nvPr/>
        </p:nvPicPr>
        <p:blipFill>
          <a:blip r:embed="rId4"/>
          <a:stretch/>
        </p:blipFill>
        <p:spPr>
          <a:xfrm>
            <a:off x="5089680" y="4214880"/>
            <a:ext cx="3531960" cy="2643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6" name="Picture 11" descr="BINDERS"/>
          <p:cNvPicPr/>
          <p:nvPr/>
        </p:nvPicPr>
        <p:blipFill>
          <a:blip r:embed="rId1"/>
          <a:stretch/>
        </p:blipFill>
        <p:spPr>
          <a:xfrm>
            <a:off x="7786800" y="785880"/>
            <a:ext cx="780840" cy="1266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3143520" cy="2428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5584680" y="642960"/>
            <a:ext cx="3559320" cy="271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9" name="Picture 7" descr=""/>
          <p:cNvPicPr/>
          <p:nvPr/>
        </p:nvPicPr>
        <p:blipFill>
          <a:blip r:embed="rId4"/>
          <a:stretch/>
        </p:blipFill>
        <p:spPr>
          <a:xfrm>
            <a:off x="285840" y="3286080"/>
            <a:ext cx="3214440" cy="271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300" name="Picture 8" descr=""/>
          <p:cNvPicPr/>
          <p:nvPr/>
        </p:nvPicPr>
        <p:blipFill>
          <a:blip r:embed="rId5"/>
          <a:stretch/>
        </p:blipFill>
        <p:spPr>
          <a:xfrm>
            <a:off x="3500280" y="571680"/>
            <a:ext cx="1932120" cy="3022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301" name="Picture 4" descr=""/>
          <p:cNvPicPr/>
          <p:nvPr/>
        </p:nvPicPr>
        <p:blipFill>
          <a:blip r:embed="rId6"/>
          <a:stretch/>
        </p:blipFill>
        <p:spPr>
          <a:xfrm>
            <a:off x="5500800" y="3500280"/>
            <a:ext cx="3643200" cy="2732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2786040" y="264312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Вопросы есть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6064"/>
                </a:solidFill>
                <a:latin typeface="Trebuchet MS"/>
              </a:rPr>
              <a:t>ЦЕЛИ И ИДЕИ КУР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грамм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звана обеспечить ценностно-смысловую определенность нравственного и гражданско-патриотического воспит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дущая идея программ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общая культура личности, патриотизм, гражданственность должны стать важной движущей силой казахстанского общества, формирование национального самосознания школь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А.С.Барков писал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Краеведение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есть комплекс научных дисциплин, различных по содержанию и частным методам исследования, но ведущих в своей совокупности к научному и всестороннему познанию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кра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9972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раеведени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не только изучает,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о и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ценивает значительность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бытий, ценность памятников, красоту пейзажей,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ыявляет общее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я страны и края, а также особенные черты, присущие только ему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j0301252"/>
          <p:cNvPicPr/>
          <p:nvPr/>
        </p:nvPicPr>
        <p:blipFill>
          <a:blip r:embed="rId1"/>
          <a:stretch/>
        </p:blipFill>
        <p:spPr>
          <a:xfrm>
            <a:off x="6286680" y="49291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071720"/>
            <a:ext cx="82296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вод :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«краеведение»-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 изучение своей «малой» Родины её природы, этнографии, материальной и духовной культуры, быта. Причем это не только предмет школьного образования, но и каждый уважающий себя человек должен знать о событиях, происходивших на его земл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38086"/>
                </a:solidFill>
                <a:uFillTx/>
                <a:latin typeface="Trebuchet MS"/>
              </a:rPr>
              <a:t>Предметом краеведческого исследова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50020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ходе этого курса учащиеся познакомятся с историей города Рудного, растительным и животным миром, водными ресурсами родного края. Узнают так же об экологии, о памятниках истории и культуры,  об участниках боевых действий во время Великой Отечественной войны и в «горячих точках», о тружениках тыла, ветеранах труда, посетят городской музей истории и краевед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38086"/>
                </a:solidFill>
                <a:latin typeface="Trebuchet MS"/>
              </a:rPr>
              <a:t>Образовательные задачи курса: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знакомление с историей  малой роди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ормирование  навыков исследовательской работы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владение навыками поисковой работы в Интернете и использование цифровых технологи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6" descr="j0234134"/>
          <p:cNvPicPr/>
          <p:nvPr/>
        </p:nvPicPr>
        <p:blipFill>
          <a:blip r:embed="rId1"/>
          <a:stretch/>
        </p:blipFill>
        <p:spPr>
          <a:xfrm>
            <a:off x="7453440" y="5143680"/>
            <a:ext cx="1369800" cy="131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0:53:21Z</dcterms:created>
  <dc:creator>Admin</dc:creator>
  <dc:description/>
  <dc:language>en-US</dc:language>
  <cp:lastModifiedBy>User</cp:lastModifiedBy>
  <dcterms:modified xsi:type="dcterms:W3CDTF">2007-08-27T18:21:24Z</dcterms:modified>
  <cp:revision>102</cp:revision>
  <dc:subject/>
  <dc:title>КРАЕВЕДЕНИЕ</dc:title>
</cp:coreProperties>
</file>