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982-4EA2-48CD-B6F2-AA951EDEDD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79F-37BC-45F1-A735-F9C602B409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713-9C6F-4C72-82D6-8AF82DEB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05A-CA0B-4298-804D-A840179D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22B-E53F-4F43-866C-A682AF52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475-A9B1-4090-B9F8-4479AF72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1B0-9C23-4A98-B624-15664B9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7F7-3E64-41D2-8318-9931A561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49D-5112-41AB-A8F3-DF40455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14F-65F9-4FA4-A08A-1C51791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CEA-AC50-4522-AB66-FD4E240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A15-0B2C-4464-B22A-9B269F74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76B-27D2-42B1-8366-02C73647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13D-9D47-45A4-9382-78829AC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A93A-FFEF-474C-8E2A-A8EDD0F53A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.wm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52a6e3dc8f1e1 (1)"/>
          <p:cNvPicPr/>
          <p:nvPr/>
        </p:nvPicPr>
        <p:blipFill>
          <a:blip r:embed="rId2"/>
          <a:stretch/>
        </p:blipFill>
        <p:spPr>
          <a:xfrm>
            <a:off x="1066680" y="762120"/>
            <a:ext cx="7848720" cy="4994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5120" y="5185800"/>
            <a:ext cx="6019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2-сынып  жетекшісі:  Молдабаева Р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52480" y="12193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едагогикалық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үрінде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өткізілген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та-анала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жинал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uch_i_bat"/>
          <p:cNvPicPr/>
          <p:nvPr/>
        </p:nvPicPr>
        <p:blipFill>
          <a:blip r:embed="rId1"/>
          <a:stretch/>
        </p:blipFill>
        <p:spPr>
          <a:xfrm>
            <a:off x="914400" y="152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3657600" y="457200"/>
            <a:ext cx="4648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Kaz"/>
              </a:rPr>
              <a:t>Ой қозғау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Kaz"/>
              <a:ea typeface="Arial Kaz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560" y="1904040"/>
            <a:ext cx="8267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Ертеде жұрттың барлығына танымал бір данышп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тұрып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 адам оның барлығын біле бермейтінін дәлелдегісі кел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дына келеді. Ол алақанына бір көбелекті салы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нан сұр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Айтшы, менің алақанымдағы көбелек тірі ме әлде өлі ме?»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өзі ішінен ойл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Егер де тірі десе мен оны қысып өлтіріп таст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егер өлі десе -ұшырып жіберемін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 ойланып тұрып : « </a:t>
            </a:r>
            <a:r>
              <a:rPr b="1" i="1" lang="kk-KZ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» деп жауап беріпті.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2120" y="510552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Сұрақ: Данышпан не деп жауап берді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33240" y="5867280"/>
            <a:ext cx="851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Бәрі де өз қолыңда” деп жауап беріпті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C:\Users\ПК\Desktop\ата-ана жиналысы\P71223-154402.jpg"/>
          <p:cNvPicPr/>
          <p:nvPr/>
        </p:nvPicPr>
        <p:blipFill>
          <a:blip r:embed="rId3"/>
          <a:stretch/>
        </p:blipFill>
        <p:spPr>
          <a:xfrm>
            <a:off x="685800" y="0"/>
            <a:ext cx="243828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ПК\Desktop\ата-ана жиналысы\P71223-154402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408"/>
          <p:cNvPicPr/>
          <p:nvPr/>
        </p:nvPicPr>
        <p:blipFill>
          <a:blip r:embed="rId1"/>
          <a:stretch/>
        </p:blipFill>
        <p:spPr>
          <a:xfrm rot="16200000">
            <a:off x="5738760" y="3147840"/>
            <a:ext cx="640080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408"/>
          <p:cNvPicPr/>
          <p:nvPr/>
        </p:nvPicPr>
        <p:blipFill>
          <a:blip r:embed="rId2"/>
          <a:stretch/>
        </p:blipFill>
        <p:spPr>
          <a:xfrm rot="10800000">
            <a:off x="837720" y="6448320"/>
            <a:ext cx="754380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533520" y="152640"/>
            <a:ext cx="8001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ланы жастан б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Жамандықтан қ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Қадірден жұрдай қасқа бо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Кешкенің өмір босқа т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-дегендей,баласының ыстық-суығына күймейтін,жақсылығына сүйінбейтін ата-ана жоқ шығар,сір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Олай болса,бауыр етіңі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балаларыңызды жақсы көріп,еміренгенде не дейсіздер?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811680" y="2819160"/>
            <a:ext cx="46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Құрметті ата-анал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енді түрлі-түсті бояуды пайдаланы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үлкен жүректің суретін салайық.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733920" y="380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шуыңызға тигенд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шыныңызды жазыңыздарш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сөздерді көп қолданасыз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57995"/>
          <p:cNvPicPr/>
          <p:nvPr/>
        </p:nvPicPr>
        <p:blipFill>
          <a:blip r:embed="rId3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img4"/>
          <p:cNvPicPr/>
          <p:nvPr/>
        </p:nvPicPr>
        <p:blipFill>
          <a:blip r:embed="rId4"/>
          <a:stretch/>
        </p:blipFill>
        <p:spPr>
          <a:xfrm>
            <a:off x="9144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ПК\Desktop\ата-ана жиналысы\P71223-155156.jpg"/>
          <p:cNvPicPr/>
          <p:nvPr/>
        </p:nvPicPr>
        <p:blipFill>
          <a:blip r:embed="rId5"/>
          <a:stretch/>
        </p:blipFill>
        <p:spPr>
          <a:xfrm>
            <a:off x="914400" y="2438280"/>
            <a:ext cx="2743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ПК\Desktop\ата-ана жиналысы\P71223-155156.jpg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601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ПК\Desktop\2 сынып\ТӘРБИЕ\Ата-ана жиналысы\ата-ана жиналысы\P71223-155124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88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“</a:t>
            </a: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Ата-аналардың басты қателігі-олардың ең алдымен өздерін тәрбиелеп алмай,балаларын тәрбиелеуге тырысатындығын-да” </a:t>
            </a:r>
            <a:br>
              <a:rPr sz="2800"/>
            </a:b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                                                       </a:t>
            </a:r>
            <a:r>
              <a:rPr b="0" lang="kk-KZ" sz="2800" spc="-1" strike="noStrike">
                <a:solidFill>
                  <a:srgbClr val="cc0000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17" descr="love-403"/>
          <p:cNvPicPr/>
          <p:nvPr/>
        </p:nvPicPr>
        <p:blipFill>
          <a:blip r:embed="rId1"/>
          <a:stretch/>
        </p:blipFill>
        <p:spPr>
          <a:xfrm>
            <a:off x="609480" y="3124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20"/>
          <p:cNvGraphicFramePr/>
          <p:nvPr/>
        </p:nvGraphicFramePr>
        <p:xfrm>
          <a:off x="3048120" y="2362320"/>
          <a:ext cx="5943600" cy="42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59436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j0157995"/>
          <p:cNvPicPr/>
          <p:nvPr/>
        </p:nvPicPr>
        <p:blipFill>
          <a:blip r:embed="rId4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ПК\Desktop\ата-ана жиналысы\P71223-154212.jpg"/>
          <p:cNvPicPr/>
          <p:nvPr/>
        </p:nvPicPr>
        <p:blipFill>
          <a:blip r:embed="rId5"/>
          <a:stretch/>
        </p:blipFill>
        <p:spPr>
          <a:xfrm>
            <a:off x="762120" y="2286000"/>
            <a:ext cx="23619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ПК\Desktop\ата-ана жиналысы\P71223-154130.jpg"/>
          <p:cNvPicPr/>
          <p:nvPr/>
        </p:nvPicPr>
        <p:blipFill>
          <a:blip r:embed="rId6"/>
          <a:stretch/>
        </p:blipFill>
        <p:spPr>
          <a:xfrm>
            <a:off x="4876920" y="3429000"/>
            <a:ext cx="223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ПК\Desktop\ата-ана жиналысы\P71223-154212.jpg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ПК\Desktop\ата-ана жиналысы\P71223-154130.jpg"/>
          <p:cNvPicPr/>
          <p:nvPr/>
        </p:nvPicPr>
        <p:blipFill>
          <a:blip r:embed="rId2"/>
          <a:stretch/>
        </p:blipFill>
        <p:spPr>
          <a:xfrm>
            <a:off x="4876920" y="533520"/>
            <a:ext cx="3886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286000" y="22860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ӨСИЕТ ӘҢГІМ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24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440405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906840" y="1217520"/>
            <a:ext cx="808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ағдайлы бір отбасы баласын ешкімн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ем өсіргісі келмей барлық жағдайын жас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Қазіргі заманның озық технологиясымен жасалынғ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ойыншықтар, компьютер, тіптен қымбат телефонды да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лып береді. Бірақ баласы осының бәріне қанағаттанба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үнде ата-анасының жұмысқа кетпеуін өтінеді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 жұмысқа бармаса болмайтын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қша табатынын баласына түсіндіреді. Ал, баласы осы сәт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ың күніне қанша ақша табатынын сұрап біле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Бала сол күннен бастап ата-анасының өзіне тастап кет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үрген ақшасын жұмсамай жинай баст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инаған ақшасы ата-анасының бір күнді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табысына жеткен күні б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а өтініш жасай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14400" y="5790960"/>
            <a:ext cx="777240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Әке, ана! Бүгін жұмысқа бармай бір күндеріңізді маған қиыңыздарш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Бір күнгі табыстарыңызды мен төлейін деп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5" descr="f1 (47)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41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914400" y="306000"/>
            <a:ext cx="7620120" cy="451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Тапсырма: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та-аналар, сіздер қазір көбелектің суретін сал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5 минут қана уақыт беріледі, алдарыңыздағы бояудың сан түрін пайдаланып, әдемі көбелектің суретін бейнеле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елек суретіне  қойылатын критери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1.  Суреттің  бетте орналас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2. суреттің көлемі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3. бояуының қанықтығы, дұрыс боялуы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4. қанаттарының симметриялы болуы.</a:t>
            </a:r>
            <a:br>
              <a:rPr sz="1800"/>
            </a:b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5. барлық мүшелерінің бол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К\Desktop\ата-ана жиналысы\P71223-152751.jpg"/>
          <p:cNvPicPr/>
          <p:nvPr/>
        </p:nvPicPr>
        <p:blipFill>
          <a:blip r:embed="rId3"/>
          <a:stretch/>
        </p:blipFill>
        <p:spPr>
          <a:xfrm>
            <a:off x="838080" y="3809880"/>
            <a:ext cx="213372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:\Users\ПК\Desktop\ата-ана жиналысы\P71223-153025.jpg"/>
          <p:cNvPicPr/>
          <p:nvPr/>
        </p:nvPicPr>
        <p:blipFill>
          <a:blip r:embed="rId4"/>
          <a:stretch/>
        </p:blipFill>
        <p:spPr>
          <a:xfrm>
            <a:off x="3124080" y="3809880"/>
            <a:ext cx="1828800" cy="28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ПК\Desktop\ата-ана жиналысы\P71223-154118.jpg"/>
          <p:cNvPicPr/>
          <p:nvPr/>
        </p:nvPicPr>
        <p:blipFill>
          <a:blip r:embed="rId5"/>
          <a:stretch/>
        </p:blipFill>
        <p:spPr>
          <a:xfrm>
            <a:off x="5029200" y="3809880"/>
            <a:ext cx="200988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C:\Users\ПК\Desktop\ата-ана жиналысы\P71223-154207.jpg"/>
          <p:cNvPicPr/>
          <p:nvPr/>
        </p:nvPicPr>
        <p:blipFill>
          <a:blip r:embed="rId6"/>
          <a:stretch/>
        </p:blipFill>
        <p:spPr>
          <a:xfrm>
            <a:off x="7086600" y="3809880"/>
            <a:ext cx="1857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C:\Users\ПК\Desktop\ата-ана жиналысы\P71223-152751.jpg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C:\Users\ПК\Desktop\ата-ана жиналысы\P71223-154118.jpg"/>
          <p:cNvPicPr/>
          <p:nvPr/>
        </p:nvPicPr>
        <p:blipFill>
          <a:blip r:embed="rId1"/>
          <a:stretch/>
        </p:blipFill>
        <p:spPr>
          <a:xfrm>
            <a:off x="380880" y="22860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ПК\Desktop\ата-ана жиналысы\P71223-154207.jpg"/>
          <p:cNvPicPr/>
          <p:nvPr/>
        </p:nvPicPr>
        <p:blipFill>
          <a:blip r:embed="rId2"/>
          <a:stretch/>
        </p:blipFill>
        <p:spPr>
          <a:xfrm>
            <a:off x="4876920" y="380880"/>
            <a:ext cx="3962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"/>
          <p:cNvSpPr txBox="1"/>
          <p:nvPr/>
        </p:nvSpPr>
        <p:spPr>
          <a:xfrm>
            <a:off x="3429000" y="685800"/>
            <a:ext cx="1028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6" descr="42"/>
          <p:cNvPicPr/>
          <p:nvPr/>
        </p:nvPicPr>
        <p:blipFill>
          <a:blip r:embed="rId3"/>
          <a:stretch/>
        </p:blipFill>
        <p:spPr>
          <a:xfrm>
            <a:off x="7620120" y="5516640"/>
            <a:ext cx="176364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j0123567"/>
          <p:cNvPicPr/>
          <p:nvPr/>
        </p:nvPicPr>
        <p:blipFill>
          <a:blip r:embed="rId4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123567"/>
          <p:cNvPicPr/>
          <p:nvPr/>
        </p:nvPicPr>
        <p:blipFill>
          <a:blip r:embed="rId5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914400" y="381096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j0157995"/>
          <p:cNvPicPr/>
          <p:nvPr/>
        </p:nvPicPr>
        <p:blipFill>
          <a:blip r:embed="rId6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1116720" y="996840"/>
            <a:ext cx="7878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Мақс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ң жеке тұлға болып қалыптастасу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 мен сынып жетекшісінің  тығыз байланыс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аңызды екенін түсінді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Күтілетін нәтиже: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лар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тегі тәрбие жұмысыны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әтижелігі  өздерімен бірлескен әрекетте ғана  болатынын жә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 пен отбасының ынтымақтастығын жүзеге асыру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ып жетекшісі негізгі рөл атқаратынын түсінед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«Баға-еңбек жемісі»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Ата-аналар қолдарыңызда смайликтер ба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Соларға қарай отырып қандай ой түюге бол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ұл қазіргі таңдағы  біздер сынып оқушыларына баға қоймаймыз. Сондықтан  осындай смайликтер арқылы баланың білім деңгейін бағалаймыз.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та-аналар,сіздердің салған суреттеріңіздің ішінен ең жақ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ға лайығын тауып, өз бағаларыңызды бері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мұғалім үшін де  оқушы еңбегін, жұмысын бағалау өте қиын і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рлық талапқа сай келсе ғана  оқушы жақсы баға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Дегенмен кейбір кеткен кемшіліктер үшін де оқушы еңбегіне сай бағаланад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 бала көңіліне әсер ет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Осыны жеңудің  жолы қандай?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інесе  жақсы баға қоймаған  мұғалімді кінәлап жатамыз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оқушыны қалай тәрбиелеу керек?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5715000" y="4114800"/>
            <a:ext cx="175248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ПК\Desktop\2 сынып\ТӘРБИЕ\Ата-ана жиналысы\ата-ана жиналысы\P71223-153240.jpg"/>
          <p:cNvPicPr/>
          <p:nvPr/>
        </p:nvPicPr>
        <p:blipFill>
          <a:blip r:embed="rId1"/>
          <a:stretch/>
        </p:blipFill>
        <p:spPr>
          <a:xfrm>
            <a:off x="4800600" y="228600"/>
            <a:ext cx="406872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ПК\Desktop\ата-ана жиналысы\P71223-153025.jpg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43000" y="228600"/>
            <a:ext cx="762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Баламен сөйлесудің 10 ережесі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4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927000" y="867600"/>
            <a:ext cx="8217000" cy="563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Үйге ашығып келмеңіз. Ашыққан адам шыдамсыз ,мазасыз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Өте шаршап қажымаңыз. Шамадан тыс физикалық, ақыл-ой жүктемел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іңізді жайсыз сезінуге әкеледі. Жұмыстағы қиындыққа бала кінәлі ем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Кызметіңіз туралы айтқанда бала қызметтің одан маңызды екенін сезінбес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Кызметіңіз сізге ұнайды, баланы-жақсы көрес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сөйлесу бәрінен де маңызды. Ас дайындауда немесе басқа жұмы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рысында келген баланы итермеңіз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-бұл адам ,  ал кешкі ас пен жұмысты күтуге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 көмекші әрі отбасының теңқұқылы мүшесі. Ыдыс жуу, еден жуу сияқ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үйдегі ең ұнамсыз жұмыстарды тапсырып ,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ны жалықтырмаңыз.  Неге қоқысты бала төгу керек?  Себебі, сіз бұйырасыз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. Бала арқылы мен білемге салмаңыз. Сіз ересексіз ,сондықтан көп білесі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Егер де балаңыз басқалармен салыстырғанда өзіне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 күшіне сенімді болсын десеңіз , бала ересектердей ой түйетінін сезетіндей сөйлес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Жұмыс-бұл жанұяны қамтамасыз ететін құрал. Егер өз өміріңіз үшін жұмыс маңызды болс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 өзін бақытсыз сезінеді және тез ержетуге асығ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Тыңдай біліңіз. Көпшілігімізге баланың ісі шала, сөзі маңызды емес деп санаймы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л кішкентай болғанмен «глобальды»  болуы мүмк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Негізінде оның ісі мен сөзі өзіміз сияқты маңызды.  Егер балаға сондай көзқарас танытсаңыз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нда ешқандай сенімділік болмай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9. 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кеңесіңіз.  Өз ойларыңыз бен уайыммен бөлісіңіз.  Ақыл – кеңес сұраңыз және соған жүгін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  Тілім нан үшін қинай бермеңіз. Балаңыз Сізден материалды тәуелді екенін айтудан қашыңыз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да сізге ауыртпалық түсіремін деген ой туады, бұл баланы жаралайды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Қарттық шағыңызда осындай жағдайлардан ұялуыңыз әбден мүмкі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9" descr="dividers_2001"/>
          <p:cNvPicPr/>
          <p:nvPr/>
        </p:nvPicPr>
        <p:blipFill>
          <a:blip r:embed="rId1"/>
          <a:stretch/>
        </p:blipFill>
        <p:spPr>
          <a:xfrm>
            <a:off x="324000" y="5923080"/>
            <a:ext cx="882000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9320" y="243000"/>
            <a:ext cx="8969400" cy="34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та –ананың, ұстаздың міндеті – баланың өзі жеке тұлға ретін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муына жағдай жаса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-бірімізбен өте жақсы түсінісіп жұмыс жасадық деп ойл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ұрметті ата-аналар! Енді осы балапандарымызға жүрегімізд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шыққан жылы сөздеріңізбен, тілектеріңізді қағазға (жапырақ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азып ағашты көркейтейі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үректен шыққан тілектеріңі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әрдайым жер бетіндегі балалар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олдап желеп-жебеп жүрсін дегім келеді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Users\ПК\Desktop\ата-ана жиналысы\P71223-160004.jpg"/>
          <p:cNvPicPr/>
          <p:nvPr/>
        </p:nvPicPr>
        <p:blipFill>
          <a:blip r:embed="rId2"/>
          <a:stretch/>
        </p:blipFill>
        <p:spPr>
          <a:xfrm>
            <a:off x="3048120" y="3762360"/>
            <a:ext cx="2514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ПК\Desktop\2 сынып\ТӘРБИЕ\Ата-ана жиналысы\ата-ана жиналысы\P71223-155921.jpg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ПК\Desktop\2 сынып\ТӘРБИЕ\Ата-ана жиналысы\ата-ана жиналысы\P71223-155945.jpg"/>
          <p:cNvPicPr/>
          <p:nvPr/>
        </p:nvPicPr>
        <p:blipFill>
          <a:blip r:embed="rId2"/>
          <a:stretch/>
        </p:blipFill>
        <p:spPr>
          <a:xfrm>
            <a:off x="4724280" y="45720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4" descr="408"/>
          <p:cNvPicPr/>
          <p:nvPr/>
        </p:nvPicPr>
        <p:blipFill>
          <a:blip r:embed="rId1"/>
          <a:stretch/>
        </p:blipFill>
        <p:spPr>
          <a:xfrm rot="16200000">
            <a:off x="-2195280" y="303372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408"/>
          <p:cNvPicPr/>
          <p:nvPr/>
        </p:nvPicPr>
        <p:blipFill>
          <a:blip r:embed="rId2"/>
          <a:stretch/>
        </p:blipFill>
        <p:spPr>
          <a:xfrm rot="16200000">
            <a:off x="6262560" y="318600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408"/>
          <p:cNvPicPr/>
          <p:nvPr/>
        </p:nvPicPr>
        <p:blipFill>
          <a:blip r:embed="rId3"/>
          <a:stretch/>
        </p:blipFill>
        <p:spPr>
          <a:xfrm>
            <a:off x="2133720" y="6448320"/>
            <a:ext cx="510516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1416555396"/>
          <p:cNvPicPr/>
          <p:nvPr/>
        </p:nvPicPr>
        <p:blipFill>
          <a:blip r:embed="rId4"/>
          <a:stretch/>
        </p:blipFill>
        <p:spPr>
          <a:xfrm>
            <a:off x="990720" y="304920"/>
            <a:ext cx="2724120" cy="2192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hello_html_47e78252"/>
          <p:cNvPicPr/>
          <p:nvPr/>
        </p:nvPicPr>
        <p:blipFill>
          <a:blip r:embed="rId5"/>
          <a:stretch/>
        </p:blipFill>
        <p:spPr>
          <a:xfrm>
            <a:off x="4038480" y="914400"/>
            <a:ext cx="4467240" cy="547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ПК\Desktop\ата-ана жиналысы\P71223-155930.jpg"/>
          <p:cNvPicPr/>
          <p:nvPr/>
        </p:nvPicPr>
        <p:blipFill>
          <a:blip r:embed="rId6"/>
          <a:stretch/>
        </p:blipFill>
        <p:spPr>
          <a:xfrm>
            <a:off x="685800" y="2514600"/>
            <a:ext cx="320040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14040" y="226080"/>
            <a:ext cx="79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гі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налысымызды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дагогикалық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ізінде өткіземін.Бұл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а-ана мен мұғалімнің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ігіп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істеу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әдіс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деш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әріміз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г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берханада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сайты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амы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f1fdd1a4932f"/>
          <p:cNvPicPr/>
          <p:nvPr/>
        </p:nvPicPr>
        <p:blipFill>
          <a:blip r:embed="rId2"/>
          <a:stretch/>
        </p:blipFill>
        <p:spPr>
          <a:xfrm>
            <a:off x="2133720" y="2438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(1)"/>
          <p:cNvPicPr/>
          <p:nvPr/>
        </p:nvPicPr>
        <p:blipFill>
          <a:blip r:embed="rId2"/>
          <a:stretch/>
        </p:blipFill>
        <p:spPr>
          <a:xfrm>
            <a:off x="6019920" y="304920"/>
            <a:ext cx="2124000" cy="2047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9240" y="457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Дөңгеленіп тұрайық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ерегені құрайық.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Уықтар боп иіліп,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Шаңыраққа киіліп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иіз үйді құрайы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92080" y="2451960"/>
            <a:ext cx="75661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Міне сіздермен біз үлкен киіз үйді құрды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Осы киіз үй сияқты біздің мектебімізді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қабырғалары мықты болып, шаңырағ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биік болсын дегім келеді.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Бәріміз айнала шеңбер жасап, орнымыздан тұрайы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және әрбір ата-ан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          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«Бала үшін ата-ана кім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деген сұраққа бір ауыз сөзбен жауап айтып          шығуды сұраймын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a4"/>
                </a:solidFill>
                <a:latin typeface="Arial"/>
              </a:rPr>
              <a:t>(Геометриялық фигураларды таңдап, орындарына отыра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C:\Users\ПК\Desktop\ата-ана жиналысы\P71223-151531.jpg"/>
          <p:cNvPicPr/>
          <p:nvPr/>
        </p:nvPicPr>
        <p:blipFill>
          <a:blip r:embed="rId3"/>
          <a:stretch/>
        </p:blipFill>
        <p:spPr>
          <a:xfrm>
            <a:off x="685800" y="0"/>
            <a:ext cx="16286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3541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C:\Users\ПК\Desktop\ата-ана жиналысы\P71223-151531.jpg"/>
          <p:cNvPicPr/>
          <p:nvPr/>
        </p:nvPicPr>
        <p:blipFill>
          <a:blip r:embed="rId1"/>
          <a:stretch/>
        </p:blipFill>
        <p:spPr>
          <a:xfrm>
            <a:off x="228600" y="228600"/>
            <a:ext cx="4191120" cy="640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ПК\Desktop\ата-ана жиналысы\P71223-151445.jpg"/>
          <p:cNvPicPr/>
          <p:nvPr/>
        </p:nvPicPr>
        <p:blipFill>
          <a:blip r:embed="rId2"/>
          <a:stretch/>
        </p:blipFill>
        <p:spPr>
          <a:xfrm>
            <a:off x="4572000" y="228600"/>
            <a:ext cx="4237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0008-008-Kvadrat"/>
          <p:cNvPicPr/>
          <p:nvPr/>
        </p:nvPicPr>
        <p:blipFill>
          <a:blip r:embed="rId2"/>
          <a:stretch/>
        </p:blipFill>
        <p:spPr>
          <a:xfrm>
            <a:off x="91440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518480" y="137160"/>
            <a:ext cx="74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Таңдаған фигураларыңыз бойынша мінездемеңіз: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362320" y="915120"/>
            <a:ext cx="754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 тұрақты ортада ыңғайлы сезінеді, нақты тапсырманы қалай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л барлығы белгіленген тәртіппен болғанын жақсы көре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де оған тапсырма берсе, ол оны аяқтаған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іпті жалғыз қалса да, орнынан кетпейді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55-triangle_illustration"/>
          <p:cNvPicPr/>
          <p:nvPr/>
        </p:nvPicPr>
        <p:blipFill>
          <a:blip r:embed="rId3"/>
          <a:stretch/>
        </p:blipFill>
        <p:spPr>
          <a:xfrm>
            <a:off x="1066680" y="2209680"/>
            <a:ext cx="1131840" cy="1257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7"/>
          <p:cNvSpPr/>
          <p:nvPr/>
        </p:nvSpPr>
        <p:spPr>
          <a:xfrm>
            <a:off x="2195280" y="2283840"/>
            <a:ext cx="714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е мақсат қояды. Ол үнемі жоспармен жүреді және сол жоспары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рындаған сайын одан ләззат алып алға қарай ұмтылады. Ол ірі ұза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мерзімді істерге көп көңіл бөледі де кішкентай бөлшектерге мән бермей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оған тапсырма берсе, ол алдымен өзіне мақсат қойып содан со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орындау жоспарын құрады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3b6bd5fab17613e9ce93341f3cccbb4a8df170aa_large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2354400" y="3990960"/>
            <a:ext cx="633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даммен тез тіл табыса алады, көпшіл. Ол басқалармен қарым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тынас жасап, сөйлесе жүріп өз жұмысын бітіреді. Адамдардың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расындағы жайлылықты ең алдыңғы орынға қояды. Егер де оғ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апсырма берсе, ол басқа біреумен ақылдасады.</a:t>
            </a:r>
            <a:r>
              <a:rPr b="1" i="1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0" descr="m-n_XIR7W84"/>
          <p:cNvPicPr/>
          <p:nvPr/>
        </p:nvPicPr>
        <p:blipFill>
          <a:blip r:embed="rId5"/>
          <a:stretch/>
        </p:blipFill>
        <p:spPr>
          <a:xfrm>
            <a:off x="914400" y="5410080"/>
            <a:ext cx="1523880" cy="986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1"/>
          <p:cNvSpPr/>
          <p:nvPr/>
        </p:nvSpPr>
        <p:spPr>
          <a:xfrm>
            <a:off x="2427840" y="5256000"/>
            <a:ext cx="6071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Шығармашыл, ерекшелігі көрініп тұр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күнделікті жағдай тез шаршатады, сондықтан да ол жаң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геше бір нәрсемен шұғылдану қажет. Егер де оның алды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ндай да бір міндет қойса, оның алдында жаңа идеялар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жаңа жобалар дайын тұр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762120" y="152280"/>
            <a:ext cx="8153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Амандас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Алдымен бір- бірімізбен амандасып алайық. Амандасуды кішкене өзгеше өткізгім келіп тұ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аршы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елгілер қол алып амандасады,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үшбұрыш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дауыс арқы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ңбер 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мимика арқылы,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ирек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ас изеу арқылы бір -бірімізбен амандасып алайық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74640" y="2744280"/>
            <a:ext cx="86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тәрбиесі-қызығы мен қиыншылығы қатар жүретін күрделі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«Балапан ұяда нені көрсе, ұшқанда соны іледі» демекш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әкеден ақыл, анадан мейірім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 -адамзат бесігін тербеткен ұя болса, сол отбасындағ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ның басты ұстазы-ата-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ереке, бірлігі мол үлгілі отбасында тәрбиеленген баланың та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жүйесі мейлінше ауқымды, болашақ өркениетке қосар үлесі б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«Жас көңіл тың жер тәрізд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Не ексең сол шығады, әрі мол шыға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п әйгілі, атақты Ғабиден Мұстафин айтқанда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- баланың тәрбиесінің айна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мек, баланы  отбасынан тануға болады, яғни ата-анасың бір- бірім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та-анасының баласымен қарым қатына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екенің өз көзқарасынды қалыптастыруға бо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371600" y="30492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 ексең, соны орасың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219320" y="97380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Алла мықты жаратқан сегіз батыр,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Баяғыдан соғысып әлі жатыр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езек-кезек жығылып, жатып тұрып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ім жеңері белгісіз түбінде ақы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       </a:t>
            </a: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АБ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79200" y="2819520"/>
            <a:ext cx="816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іне, осы жұмбақтың жауабы сегіз батырдың біріншісі «жақсылық» бол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екіншісі «жамандық» екен. Кез келген адамнан ол екеуін табу үші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йнадағы бейнемізге қарап ойланам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л, енді сіздер берілген парақтың оң жағына жақсы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ол жағына жаман қасиеттеріңізді жаз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42040" y="441936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Жаман қасиеттеріңізден арылғыларыңыз келе ме? Ендеше жам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қасиеттеріңізді бөліп жыртып алып «менің бойымнан осы жаман қаси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әңгіге жоғалсын» — деп айтып ұсақтап жыртып т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95280" y="5730120"/>
            <a:ext cx="747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Қорытынд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Бала ата-ананың айнасы-демекші, баламыздың  бойына өз бойымыздағы жақсы қасиеттерді сіңіре біл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C:\Users\ПК\Desktop\ата-ана жиналысы\P71223-154150.jpg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C:\Users\ПК\Desktop\ата-ана жиналысы\P71223-154150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1-03T03:58:44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