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13.jpeg" ContentType="image/jpeg"/>
  <Override PartName="/ppt/media/image40.jpeg" ContentType="image/jpeg"/>
  <Override PartName="/ppt/media/image36.jpeg" ContentType="image/jpeg"/>
  <Override PartName="/ppt/media/image28.jpeg" ContentType="image/jpeg"/>
  <Override PartName="/ppt/media/image6.jpeg" ContentType="image/jpeg"/>
  <Override PartName="/ppt/media/image33.jpeg" ContentType="image/jpeg"/>
  <Override PartName="/ppt/media/image34.gif" ContentType="image/gif"/>
  <Override PartName="/ppt/media/image4.gif" ContentType="image/gif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8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57C17-E754-40BE-BF94-5EA259EA3B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C9A58-7E89-4E36-A115-A5A3D508EB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32E-A413-4DC4-9725-0C225604C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C886-C580-4639-8D55-54868A10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54F2-6161-4429-8CEC-69B4F942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28A7-75F1-4245-893B-39B682DBE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D955-5EA2-44BD-ACA1-B0D49FB4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8992-F1A6-4E22-97EA-8E50AD48F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039-0755-433F-B11A-5C8D3C59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91C9-8E75-4232-BDB7-1D4E59AB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11C8-AA59-4A90-A6DD-0D88DE29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AAA-EA57-49C8-B6E7-527B578F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B1F6-C676-4AAA-8211-30AD7674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046F-2084-480F-A84E-2C7D9104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C8F7-2A54-4494-86CD-BF761EAED91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.wmf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wmf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wm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52a6e3dc8f1e1 (1)"/>
          <p:cNvPicPr/>
          <p:nvPr/>
        </p:nvPicPr>
        <p:blipFill>
          <a:blip r:embed="rId2"/>
          <a:stretch/>
        </p:blipFill>
        <p:spPr>
          <a:xfrm>
            <a:off x="1066680" y="762120"/>
            <a:ext cx="7848720" cy="4994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905120" y="5185800"/>
            <a:ext cx="6019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cc99"/>
                </a:solidFill>
                <a:latin typeface="Arial"/>
              </a:rPr>
              <a:t>2-сынып  жетекшісі:  Молдабаева Р.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52480" y="121932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едагогикалық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шеберхана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түрінде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өткізілген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ата-анала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жинал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uch_i_bat"/>
          <p:cNvPicPr/>
          <p:nvPr/>
        </p:nvPicPr>
        <p:blipFill>
          <a:blip r:embed="rId1"/>
          <a:stretch/>
        </p:blipFill>
        <p:spPr>
          <a:xfrm>
            <a:off x="914400" y="1522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157995"/>
          <p:cNvPicPr/>
          <p:nvPr/>
        </p:nvPicPr>
        <p:blipFill>
          <a:blip r:embed="rId2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3657600" y="457200"/>
            <a:ext cx="46483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Kaz"/>
              </a:rPr>
              <a:t>Ой қозғау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Kaz"/>
              <a:ea typeface="Arial Kaz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54560" y="1904040"/>
            <a:ext cx="82670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Ертеде жұрттың барлығына танымал бір данышп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тұрып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Бір адам оның барлығын біле бермейтінін дәлелдегісі келі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дына келеді. Ол алақанына бір көбелекті салы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нышпаннан сұрайд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«Айтшы, менің алақанымдағы көбелек тірі ме әлде өлі ме?»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 өзі ішінен ойлайд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«Егер де тірі десе мен оны қысып өлтіріп тастаймы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 егер өлі десе -ұшырып жіберемін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нышпан ойланып тұрып : « </a:t>
            </a:r>
            <a:r>
              <a:rPr b="1" i="1" lang="kk-KZ" sz="28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» деп жауап беріпті.</a:t>
            </a: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2120" y="5105520"/>
            <a:ext cx="851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Сұрақ: Данышпан не деп жауап берді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33240" y="5867280"/>
            <a:ext cx="8510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Бәрі де өз қолыңда” деп жауап беріпті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C:\Users\ПК\Desktop\ата-ана жиналысы\P71223-154402.jpg"/>
          <p:cNvPicPr/>
          <p:nvPr/>
        </p:nvPicPr>
        <p:blipFill>
          <a:blip r:embed="rId3"/>
          <a:stretch/>
        </p:blipFill>
        <p:spPr>
          <a:xfrm>
            <a:off x="685800" y="0"/>
            <a:ext cx="2438280" cy="19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ПК\Desktop\ата-ана жиналысы\P71223-154402.jpg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408"/>
          <p:cNvPicPr/>
          <p:nvPr/>
        </p:nvPicPr>
        <p:blipFill>
          <a:blip r:embed="rId1"/>
          <a:stretch/>
        </p:blipFill>
        <p:spPr>
          <a:xfrm rot="16200000">
            <a:off x="5738760" y="3147840"/>
            <a:ext cx="6400800" cy="4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408"/>
          <p:cNvPicPr/>
          <p:nvPr/>
        </p:nvPicPr>
        <p:blipFill>
          <a:blip r:embed="rId2"/>
          <a:stretch/>
        </p:blipFill>
        <p:spPr>
          <a:xfrm rot="10800000">
            <a:off x="837720" y="6448320"/>
            <a:ext cx="7543800" cy="409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533520" y="152640"/>
            <a:ext cx="8001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ланы жастан бақпасаң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Жамандықтан қақпасаң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Қадірден жұрдай қасқа боп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Кешкенің өмір босқа те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-дегендей,баласының ыстық-суығына күймейтін,жақсылығына сүйінбейтін ата-ана жоқ шығар,сір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Олай болса,бауыр етіңі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балаларыңызды жақсы көріп,еміренгенде не дейсіздер?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3811680" y="2819160"/>
            <a:ext cx="46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Құрметті ата-анала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енді түрлі-түсті бояуды пайдаланып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үлкен жүректің суретін салайық.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3733920" y="3809520"/>
            <a:ext cx="44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Ашуыңызға тигенд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шыныңызды жазыңыздарш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қандай сөздерді көп қолданасызда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j0157995"/>
          <p:cNvPicPr/>
          <p:nvPr/>
        </p:nvPicPr>
        <p:blipFill>
          <a:blip r:embed="rId3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img4"/>
          <p:cNvPicPr/>
          <p:nvPr/>
        </p:nvPicPr>
        <p:blipFill>
          <a:blip r:embed="rId4"/>
          <a:stretch/>
        </p:blipFill>
        <p:spPr>
          <a:xfrm>
            <a:off x="914400" y="2971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ПК\Desktop\ата-ана жиналысы\P71223-155156.jpg"/>
          <p:cNvPicPr/>
          <p:nvPr/>
        </p:nvPicPr>
        <p:blipFill>
          <a:blip r:embed="rId5"/>
          <a:stretch/>
        </p:blipFill>
        <p:spPr>
          <a:xfrm>
            <a:off x="914400" y="2438280"/>
            <a:ext cx="274320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C:\Users\ПК\Desktop\ата-ана жиналысы\P71223-155156.jpg"/>
          <p:cNvPicPr/>
          <p:nvPr/>
        </p:nvPicPr>
        <p:blipFill>
          <a:blip r:embed="rId1"/>
          <a:stretch/>
        </p:blipFill>
        <p:spPr>
          <a:xfrm>
            <a:off x="228600" y="380880"/>
            <a:ext cx="4267080" cy="6019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ПК\Desktop\2 сынып\ТӘРБИЕ\Ата-ана жиналысы\ата-ана жиналысы\P71223-155124.jpg"/>
          <p:cNvPicPr/>
          <p:nvPr/>
        </p:nvPicPr>
        <p:blipFill>
          <a:blip r:embed="rId2"/>
          <a:stretch/>
        </p:blipFill>
        <p:spPr>
          <a:xfrm>
            <a:off x="4800600" y="380880"/>
            <a:ext cx="380988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2880" y="4572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“</a:t>
            </a: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Ата-аналардың басты қателігі-олардың ең алдымен өздерін тәрбиелеп алмай,балаларын тәрбиелеуге тырысатындығын-да” </a:t>
            </a:r>
            <a:br>
              <a:rPr sz="2800"/>
            </a:b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                                                       </a:t>
            </a:r>
            <a:r>
              <a:rPr b="0" lang="kk-KZ" sz="2800" spc="-1" strike="noStrike">
                <a:solidFill>
                  <a:srgbClr val="cc0000"/>
                </a:solidFill>
                <a:latin typeface="Arial"/>
              </a:rPr>
              <a:t>Л.Н.Толстой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17" descr="love-403"/>
          <p:cNvPicPr/>
          <p:nvPr/>
        </p:nvPicPr>
        <p:blipFill>
          <a:blip r:embed="rId1"/>
          <a:stretch/>
        </p:blipFill>
        <p:spPr>
          <a:xfrm>
            <a:off x="609480" y="3124080"/>
            <a:ext cx="2362320" cy="1981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Object 20"/>
          <p:cNvGraphicFramePr/>
          <p:nvPr/>
        </p:nvGraphicFramePr>
        <p:xfrm>
          <a:off x="3048120" y="2362320"/>
          <a:ext cx="5943600" cy="42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59436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6" descr="j0157995"/>
          <p:cNvPicPr/>
          <p:nvPr/>
        </p:nvPicPr>
        <p:blipFill>
          <a:blip r:embed="rId4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Users\ПК\Desktop\ата-ана жиналысы\P71223-154212.jpg"/>
          <p:cNvPicPr/>
          <p:nvPr/>
        </p:nvPicPr>
        <p:blipFill>
          <a:blip r:embed="rId5"/>
          <a:stretch/>
        </p:blipFill>
        <p:spPr>
          <a:xfrm>
            <a:off x="762120" y="2286000"/>
            <a:ext cx="23619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C:\Users\ПК\Desktop\ата-ана жиналысы\P71223-154130.jpg"/>
          <p:cNvPicPr/>
          <p:nvPr/>
        </p:nvPicPr>
        <p:blipFill>
          <a:blip r:embed="rId6"/>
          <a:stretch/>
        </p:blipFill>
        <p:spPr>
          <a:xfrm>
            <a:off x="4876920" y="3429000"/>
            <a:ext cx="223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:\Users\ПК\Desktop\ата-ана жиналысы\P71223-154212.jpg"/>
          <p:cNvPicPr/>
          <p:nvPr/>
        </p:nvPicPr>
        <p:blipFill>
          <a:blip r:embed="rId1"/>
          <a:stretch/>
        </p:blipFill>
        <p:spPr>
          <a:xfrm>
            <a:off x="609480" y="53352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Users\ПК\Desktop\ата-ана жиналысы\P71223-154130.jpg"/>
          <p:cNvPicPr/>
          <p:nvPr/>
        </p:nvPicPr>
        <p:blipFill>
          <a:blip r:embed="rId2"/>
          <a:stretch/>
        </p:blipFill>
        <p:spPr>
          <a:xfrm>
            <a:off x="4876920" y="533520"/>
            <a:ext cx="3886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2286000" y="228600"/>
            <a:ext cx="44956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Kaz"/>
              </a:rPr>
              <a:t>ӨСИЕТ ӘҢГІМ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Kaz"/>
              <a:ea typeface="Arial Kaz"/>
            </a:endParaRPr>
          </a:p>
        </p:txBody>
      </p:sp>
      <p:pic>
        <p:nvPicPr>
          <p:cNvPr id="124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0440405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189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906840" y="1217520"/>
            <a:ext cx="8087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ағдайлы бір отбасы баласын ешкімн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кем өсіргісі келмей барлық жағдайын жасай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Қазіргі заманның озық технологиясымен жасалынғ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ойыншықтар, компьютер, тіптен қымбат телефонды да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лып береді. Бірақ баласы осының бәріне қанағаттанба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күнде ата-анасының жұмысқа кетпеуін өтінеді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 жұмысқа бармаса болмайтыны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қша табатынын баласына түсіндіреді. Ал, баласы осы сәт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ның күніне қанша ақша табатынын сұрап біле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Бала сол күннен бастап ата-анасының өзіне тастап кеті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үрген ақшасын жұмсамай жинай бастай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инаған ақшасы ата-анасының бір күнді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табысына жеткен күні б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на өтініш жасай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914400" y="5790960"/>
            <a:ext cx="777240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Әке, ана! Бүгін жұмысқа бармай бір күндеріңізді маған қиыңыздарш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Бір күнгі табыстарыңызды мен төлейін депт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5" descr="f1 (47)"/>
          <p:cNvPicPr/>
          <p:nvPr/>
        </p:nvPicPr>
        <p:blipFill>
          <a:blip r:embed="rId1"/>
          <a:stretch/>
        </p:blipFill>
        <p:spPr>
          <a:xfrm>
            <a:off x="6934320" y="4724280"/>
            <a:ext cx="1447560" cy="1411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9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914400" y="306000"/>
            <a:ext cx="7620120" cy="4513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a4"/>
                </a:solidFill>
                <a:latin typeface="Arial"/>
              </a:rPr>
              <a:t>Тапсырма: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та-аналар, сіздер қазір көбелектің суретін саласызд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5 минут қана уақыт беріледі, алдарыңыздағы бояудың сан түрін пайдаланып, әдемі көбелектің суретін бейнелеңізд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Көбелек суретіне  қойылатын критери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1.  Суреттің  бетте орналасу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2. суреттің көлемі</a:t>
            </a:r>
            <a:br>
              <a:rPr sz="1800"/>
            </a:b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3. бояуының қанықтығы, дұрыс боялуы</a:t>
            </a:r>
            <a:br>
              <a:rPr sz="1800"/>
            </a:b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4. қанаттарының симметриялы болуы.</a:t>
            </a:r>
            <a:br>
              <a:rPr sz="1800"/>
            </a:br>
            <a:r>
              <a:rPr b="1" i="1" lang="ru-RU" sz="1800" spc="-1" strike="noStrike">
                <a:solidFill>
                  <a:srgbClr val="0000a4"/>
                </a:solidFill>
                <a:latin typeface="Arial"/>
              </a:rPr>
              <a:t>5. барлық мүшелерінің болу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j0157995"/>
          <p:cNvPicPr/>
          <p:nvPr/>
        </p:nvPicPr>
        <p:blipFill>
          <a:blip r:embed="rId2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Users\ПК\Desktop\ата-ана жиналысы\P71223-152751.jpg"/>
          <p:cNvPicPr/>
          <p:nvPr/>
        </p:nvPicPr>
        <p:blipFill>
          <a:blip r:embed="rId3"/>
          <a:stretch/>
        </p:blipFill>
        <p:spPr>
          <a:xfrm>
            <a:off x="838080" y="3809880"/>
            <a:ext cx="2133720" cy="278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C:\Users\ПК\Desktop\ата-ана жиналысы\P71223-153025.jpg"/>
          <p:cNvPicPr/>
          <p:nvPr/>
        </p:nvPicPr>
        <p:blipFill>
          <a:blip r:embed="rId4"/>
          <a:stretch/>
        </p:blipFill>
        <p:spPr>
          <a:xfrm>
            <a:off x="3124080" y="3809880"/>
            <a:ext cx="1828800" cy="280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ПК\Desktop\ата-ана жиналысы\P71223-154118.jpg"/>
          <p:cNvPicPr/>
          <p:nvPr/>
        </p:nvPicPr>
        <p:blipFill>
          <a:blip r:embed="rId5"/>
          <a:stretch/>
        </p:blipFill>
        <p:spPr>
          <a:xfrm>
            <a:off x="5029200" y="3809880"/>
            <a:ext cx="200988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C:\Users\ПК\Desktop\ата-ана жиналысы\P71223-154207.jpg"/>
          <p:cNvPicPr/>
          <p:nvPr/>
        </p:nvPicPr>
        <p:blipFill>
          <a:blip r:embed="rId6"/>
          <a:stretch/>
        </p:blipFill>
        <p:spPr>
          <a:xfrm>
            <a:off x="7086600" y="3809880"/>
            <a:ext cx="18572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C:\Users\ПК\Desktop\ата-ана жиналысы\P71223-152751.jpg"/>
          <p:cNvPicPr/>
          <p:nvPr/>
        </p:nvPicPr>
        <p:blipFill>
          <a:blip r:embed="rId1"/>
          <a:stretch/>
        </p:blipFill>
        <p:spPr>
          <a:xfrm>
            <a:off x="380880" y="304920"/>
            <a:ext cx="4191120" cy="5943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ПК\Desktop\ата-ана жиналысы\P71223-155412.jpg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C:\Users\ПК\Desktop\ата-ана жиналысы\P71223-154118.jpg"/>
          <p:cNvPicPr/>
          <p:nvPr/>
        </p:nvPicPr>
        <p:blipFill>
          <a:blip r:embed="rId1"/>
          <a:stretch/>
        </p:blipFill>
        <p:spPr>
          <a:xfrm>
            <a:off x="380880" y="228600"/>
            <a:ext cx="4191120" cy="624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:\Users\ПК\Desktop\ата-ана жиналысы\P71223-154207.jpg"/>
          <p:cNvPicPr/>
          <p:nvPr/>
        </p:nvPicPr>
        <p:blipFill>
          <a:blip r:embed="rId2"/>
          <a:stretch/>
        </p:blipFill>
        <p:spPr>
          <a:xfrm>
            <a:off x="4876920" y="380880"/>
            <a:ext cx="39621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10"/>
          <p:cNvSpPr txBox="1"/>
          <p:nvPr/>
        </p:nvSpPr>
        <p:spPr>
          <a:xfrm>
            <a:off x="3429000" y="685800"/>
            <a:ext cx="102888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Picture 6" descr="42"/>
          <p:cNvPicPr/>
          <p:nvPr/>
        </p:nvPicPr>
        <p:blipFill>
          <a:blip r:embed="rId3"/>
          <a:stretch/>
        </p:blipFill>
        <p:spPr>
          <a:xfrm>
            <a:off x="7620120" y="5516640"/>
            <a:ext cx="1763640" cy="134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j0123567"/>
          <p:cNvPicPr/>
          <p:nvPr/>
        </p:nvPicPr>
        <p:blipFill>
          <a:blip r:embed="rId4"/>
          <a:stretch/>
        </p:blipFill>
        <p:spPr>
          <a:xfrm flipH="1" rot="16200000">
            <a:off x="7232760" y="294480"/>
            <a:ext cx="2205000" cy="161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123567"/>
          <p:cNvPicPr/>
          <p:nvPr/>
        </p:nvPicPr>
        <p:blipFill>
          <a:blip r:embed="rId5"/>
          <a:stretch/>
        </p:blipFill>
        <p:spPr>
          <a:xfrm flipH="1" rot="16200000">
            <a:off x="7232760" y="294480"/>
            <a:ext cx="2205000" cy="1616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914400" y="3810960"/>
            <a:ext cx="75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j0157995"/>
          <p:cNvPicPr/>
          <p:nvPr/>
        </p:nvPicPr>
        <p:blipFill>
          <a:blip r:embed="rId6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3"/>
          <p:cNvSpPr/>
          <p:nvPr/>
        </p:nvSpPr>
        <p:spPr>
          <a:xfrm>
            <a:off x="1116720" y="996840"/>
            <a:ext cx="7878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Мақса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қушылардың жеке тұлға болып қалыптастасуы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та-ана мен сынып жетекшісінің  тығыз байланысы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аңызды екенін түсінді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Күтілетін нәтиже: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та-аналар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ктептегі тәрбие жұмысыны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әтижелігі  өздерімен бірлескен әрекетте ғана  болатынын жә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ктеп пен отбасының ынтымақтастығын жүзеге асыру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ынып жетекшісі негізгі рөл атқаратынын түсінеді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522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«Баға-еңбек жемісі»</a:t>
            </a:r>
            <a:br>
              <a:rPr sz="1400"/>
            </a:b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Ата-аналар қолдарыңызда смайликтер ба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Соларға қарай отырып қандай ой түюге бола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ұл қазіргі таңдағы  біздер сынып оқушыларына баға қоймаймыз. Сондықтан  осындай смайликтер арқылы баланың білім деңгейін бағалаймыз.</a:t>
            </a:r>
            <a:br>
              <a:rPr sz="1400"/>
            </a:b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та-аналар,сіздердің салған суреттеріңіздің ішінен ең жақ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ғаға лайығын тауып, өз бағаларыңызды беріңізд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л мұғалім үшін де  оқушы еңбегін, жұмысын бағалау өте қиын і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рлық талапқа сай келсе ғана  оқушы жақсы баға а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Дегенмен кейбір кеткен кемшіліктер үшін де оқушы еңбегіне сай бағаланады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ға бала көңіліне әсер ет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Осыны жеңудің  жолы қандай?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Көбінесе  жақсы баға қоймаған  мұғалімді кінәлап жатамыз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л оқушыны қалай тәрбиелеу керек?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ПК\Desktop\ата-ана жиналысы\P71223-155412.jpg"/>
          <p:cNvPicPr/>
          <p:nvPr/>
        </p:nvPicPr>
        <p:blipFill>
          <a:blip r:embed="rId2"/>
          <a:stretch/>
        </p:blipFill>
        <p:spPr>
          <a:xfrm>
            <a:off x="5715000" y="4114800"/>
            <a:ext cx="175248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ПК\Desktop\2 сынып\ТӘРБИЕ\Ата-ана жиналысы\ата-ана жиналысы\P71223-153240.jpg"/>
          <p:cNvPicPr/>
          <p:nvPr/>
        </p:nvPicPr>
        <p:blipFill>
          <a:blip r:embed="rId1"/>
          <a:stretch/>
        </p:blipFill>
        <p:spPr>
          <a:xfrm>
            <a:off x="4800600" y="228600"/>
            <a:ext cx="406872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Users\ПК\Desktop\ата-ана жиналысы\P71223-153025.jpg"/>
          <p:cNvPicPr/>
          <p:nvPr/>
        </p:nvPicPr>
        <p:blipFill>
          <a:blip r:embed="rId2"/>
          <a:stretch/>
        </p:blipFill>
        <p:spPr>
          <a:xfrm>
            <a:off x="380880" y="228600"/>
            <a:ext cx="39625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1143000" y="228600"/>
            <a:ext cx="7620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Kaz"/>
              </a:rPr>
              <a:t>Баламен сөйлесудің 10 ережесі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Kaz"/>
              <a:ea typeface="Arial Kaz"/>
            </a:endParaRPr>
          </a:p>
        </p:txBody>
      </p:sp>
      <p:pic>
        <p:nvPicPr>
          <p:cNvPr id="146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4"/>
          <p:cNvSpPr/>
          <p:nvPr/>
        </p:nvSpPr>
        <p:spPr>
          <a:xfrm>
            <a:off x="927000" y="867600"/>
            <a:ext cx="8217000" cy="563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Үйге ашығып келмеңіз. Ашыққан адам шыдамсыз ,мазасыз бол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Өте шаршап қажымаңыз. Шамадан тыс физикалық, ақыл-ой жүктемеле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өзіңізді жайсыз сезінуге әкеледі. Жұмыстағы қиындыққа бала кінәлі еме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Кызметіңіз туралы айтқанда бала қызметтің одан маңызды екенін сезінбесін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Кызметіңіз сізге ұнайды, баланы-жақсы көрес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мен сөйлесу бәрінен де маңызды. Ас дайындауда немесе басқа жұмы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рысында келген баланы итермеңіз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-бұл адам ,  ал кешкі ас пен жұмысты күтуге бол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 көмекші әрі отбасының теңқұқылы мүшесі. Ыдыс жуу, еден жуу сияқ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үйдегі ең ұнамсыз жұмыстарды тапсырып ,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ны жалықтырмаңыз.  Неге қоқысты бала төгу керек?  Себебі, сіз бұйырасыз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. Бала арқылы мен білемге салмаңыз. Сіз ересексіз ,сондықтан көп білесіз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Егер де балаңыз басқалармен салыстырғанда өзіне 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өз күшіне сенімді болсын десеңіз , бала ересектердей ой түйетінін сезетіндей сөйлесің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Жұмыс-бұл жанұяны қамтамасыз ететін құрал. Егер өз өміріңіз үшін жұмыс маңызды болс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 өзін бақытсыз сезінеді және тез ержетуге асығ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Тыңдай біліңіз. Көпшілігімізге баланың ісі шала, сөзі маңызды емес деп санаймыз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Ол кішкентай болғанмен «глобальды»  болуы мүмкін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Негізінде оның ісі мен сөзі өзіміз сияқты маңызды.  Егер балаға сондай көзқарас танытсаңыз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онда ешқандай сенімділік болмай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9. 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мен кеңесіңіз.  Өз ойларыңыз бен уайыммен бөлісіңіз.  Ақыл – кеңес сұраңыз және соған жүгінің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  Тілім нан үшін қинай бермеңіз. Балаңыз Сізден материалды тәуелді екенін айтудан қашыңыз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да сізге ауыртпалық түсіремін деген ой туады, бұл баланы жаралайды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Қарттық шағыңызда осындай жағдайлардан ұялуыңыз әбден мүмкі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9" descr="dividers_2001"/>
          <p:cNvPicPr/>
          <p:nvPr/>
        </p:nvPicPr>
        <p:blipFill>
          <a:blip r:embed="rId1"/>
          <a:stretch/>
        </p:blipFill>
        <p:spPr>
          <a:xfrm>
            <a:off x="324000" y="5923080"/>
            <a:ext cx="8820000" cy="93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49320" y="243000"/>
            <a:ext cx="8969400" cy="341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та –ананың, ұстаздың міндеті – баланың өзі жеке тұлға ретін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муына жағдай жаса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Бір-бірімізбен өте жақсы түсінісіп жұмыс жасадық деп ойлаймы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Құрметті ата-аналар! Енді осы балапандарымызға жүрегімізд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шыққан жылы сөздеріңізбен, тілектеріңізді қағазға (жапырақ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жазып ағашты көркейтейі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Жүректен шыққан тілектеріңі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әрдайым жер бетіндегі балалар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қолдап желеп-жебеп жүрсін дегім келеді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C:\Users\ПК\Desktop\ата-ана жиналысы\P71223-160004.jpg"/>
          <p:cNvPicPr/>
          <p:nvPr/>
        </p:nvPicPr>
        <p:blipFill>
          <a:blip r:embed="rId2"/>
          <a:stretch/>
        </p:blipFill>
        <p:spPr>
          <a:xfrm>
            <a:off x="3048120" y="3762360"/>
            <a:ext cx="25146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ПК\Desktop\2 сынып\ТӘРБИЕ\Ата-ана жиналысы\ата-ана жиналысы\P71223-155921.jpg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609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ПК\Desktop\2 сынып\ТӘРБИЕ\Ата-ана жиналысы\ата-ана жиналысы\P71223-155945.jpg"/>
          <p:cNvPicPr/>
          <p:nvPr/>
        </p:nvPicPr>
        <p:blipFill>
          <a:blip r:embed="rId2"/>
          <a:stretch/>
        </p:blipFill>
        <p:spPr>
          <a:xfrm>
            <a:off x="4724280" y="457200"/>
            <a:ext cx="41148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4" descr="408"/>
          <p:cNvPicPr/>
          <p:nvPr/>
        </p:nvPicPr>
        <p:blipFill>
          <a:blip r:embed="rId1"/>
          <a:stretch/>
        </p:blipFill>
        <p:spPr>
          <a:xfrm rot="16200000">
            <a:off x="-2195280" y="3033720"/>
            <a:ext cx="5105520" cy="409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408"/>
          <p:cNvPicPr/>
          <p:nvPr/>
        </p:nvPicPr>
        <p:blipFill>
          <a:blip r:embed="rId2"/>
          <a:stretch/>
        </p:blipFill>
        <p:spPr>
          <a:xfrm rot="16200000">
            <a:off x="6262560" y="3186000"/>
            <a:ext cx="5105520" cy="40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408"/>
          <p:cNvPicPr/>
          <p:nvPr/>
        </p:nvPicPr>
        <p:blipFill>
          <a:blip r:embed="rId3"/>
          <a:stretch/>
        </p:blipFill>
        <p:spPr>
          <a:xfrm>
            <a:off x="2133720" y="6448320"/>
            <a:ext cx="5105160" cy="409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1416555396"/>
          <p:cNvPicPr/>
          <p:nvPr/>
        </p:nvPicPr>
        <p:blipFill>
          <a:blip r:embed="rId4"/>
          <a:stretch/>
        </p:blipFill>
        <p:spPr>
          <a:xfrm>
            <a:off x="990720" y="304920"/>
            <a:ext cx="2724120" cy="2192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hello_html_47e78252"/>
          <p:cNvPicPr/>
          <p:nvPr/>
        </p:nvPicPr>
        <p:blipFill>
          <a:blip r:embed="rId5"/>
          <a:stretch/>
        </p:blipFill>
        <p:spPr>
          <a:xfrm>
            <a:off x="4038480" y="914400"/>
            <a:ext cx="4467240" cy="5477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Users\ПК\Desktop\ата-ана жиналысы\P71223-155930.jpg"/>
          <p:cNvPicPr/>
          <p:nvPr/>
        </p:nvPicPr>
        <p:blipFill>
          <a:blip r:embed="rId6"/>
          <a:stretch/>
        </p:blipFill>
        <p:spPr>
          <a:xfrm>
            <a:off x="685800" y="2514600"/>
            <a:ext cx="3200400" cy="39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914040" y="226080"/>
            <a:ext cx="79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үгінгі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налысымызды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дагогикалық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еберха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гізінде өткіземін.Бұл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а-ана мен мұғалімнің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ірігіп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ұмыс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істеу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әдісі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деше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үгін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әріміз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ірге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берханада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ұмыс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асайтын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амы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f1fdd1a4932f"/>
          <p:cNvPicPr/>
          <p:nvPr/>
        </p:nvPicPr>
        <p:blipFill>
          <a:blip r:embed="rId2"/>
          <a:stretch/>
        </p:blipFill>
        <p:spPr>
          <a:xfrm>
            <a:off x="2133720" y="24382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i (1)"/>
          <p:cNvPicPr/>
          <p:nvPr/>
        </p:nvPicPr>
        <p:blipFill>
          <a:blip r:embed="rId2"/>
          <a:stretch/>
        </p:blipFill>
        <p:spPr>
          <a:xfrm>
            <a:off x="6019920" y="304920"/>
            <a:ext cx="2124000" cy="2047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9240" y="457920"/>
            <a:ext cx="299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Дөңгеленіп тұрайық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Керегені құрайық.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Уықтар боп иіліп,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Шаңыраққа киіліп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Киіз үйді құрайы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892080" y="2451960"/>
            <a:ext cx="75661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Міне сіздермен біз үлкен киіз үйді құрдық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Осы киіз үй сияқты біздің мектебімізді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қабырғалары мықты болып, шаңырағ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биік болсын дегім келеді.</a:t>
            </a: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Бәріміз айнала шеңбер жасап, орнымыздан тұрайы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және әрбір ата-ан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          </a:t>
            </a: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«Бала үшін ата-ана кім?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деген сұраққа бір ауыз сөзбен жауап айтып          шығуды сұраймын</a:t>
            </a: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a4"/>
                </a:solidFill>
                <a:latin typeface="Arial"/>
              </a:rPr>
              <a:t>(Геометриялық фигураларды таңдап, орындарына отыра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C:\Users\ПК\Desktop\ата-ана жиналысы\P71223-151531.jpg"/>
          <p:cNvPicPr/>
          <p:nvPr/>
        </p:nvPicPr>
        <p:blipFill>
          <a:blip r:embed="rId3"/>
          <a:stretch/>
        </p:blipFill>
        <p:spPr>
          <a:xfrm>
            <a:off x="685800" y="0"/>
            <a:ext cx="162864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35412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C:\Users\ПК\Desktop\ата-ана жиналысы\P71223-151531.jpg"/>
          <p:cNvPicPr/>
          <p:nvPr/>
        </p:nvPicPr>
        <p:blipFill>
          <a:blip r:embed="rId1"/>
          <a:stretch/>
        </p:blipFill>
        <p:spPr>
          <a:xfrm>
            <a:off x="228600" y="228600"/>
            <a:ext cx="4191120" cy="640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ПК\Desktop\ата-ана жиналысы\P71223-151445.jpg"/>
          <p:cNvPicPr/>
          <p:nvPr/>
        </p:nvPicPr>
        <p:blipFill>
          <a:blip r:embed="rId2"/>
          <a:stretch/>
        </p:blipFill>
        <p:spPr>
          <a:xfrm>
            <a:off x="4572000" y="228600"/>
            <a:ext cx="4237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2" descr="0008-008-Kvadrat"/>
          <p:cNvPicPr/>
          <p:nvPr/>
        </p:nvPicPr>
        <p:blipFill>
          <a:blip r:embed="rId2"/>
          <a:stretch/>
        </p:blipFill>
        <p:spPr>
          <a:xfrm>
            <a:off x="914400" y="762120"/>
            <a:ext cx="1447920" cy="1085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1518480" y="137160"/>
            <a:ext cx="74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Таңдаған фигураларыңыз бойынша мінездемеңіз: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2362320" y="915120"/>
            <a:ext cx="754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ін тұрақты ортада ыңғайлы сезінеді, нақты тапсырманы қалай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л барлығы белгіленген тәртіппен болғанын жақсы көреді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Егер де оған тапсырма берсе, ол оны аяқтағанш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тіпті жалғыз қалса да, орнынан кетпейді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6" descr="55-triangle_illustration"/>
          <p:cNvPicPr/>
          <p:nvPr/>
        </p:nvPicPr>
        <p:blipFill>
          <a:blip r:embed="rId3"/>
          <a:stretch/>
        </p:blipFill>
        <p:spPr>
          <a:xfrm>
            <a:off x="1066680" y="2209680"/>
            <a:ext cx="1131840" cy="1257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7"/>
          <p:cNvSpPr/>
          <p:nvPr/>
        </p:nvSpPr>
        <p:spPr>
          <a:xfrm>
            <a:off x="2195280" y="2283840"/>
            <a:ext cx="714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іне мақсат қояды. Ол үнемі жоспармен жүреді және сол жоспары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рындаған сайын одан ләззат алып алға қарай ұмтылады. Ол ірі ұзақ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мерзімді істерге көп көңіл бөледі де кішкентай бөлшектерге мән бермейді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Егер оған тапсырма берсе, ол алдымен өзіне мақсат қойып содан соң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ны орындау жоспарын құрады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8" descr="3b6bd5fab17613e9ce93341f3cccbb4a8df170aa_large"/>
          <p:cNvPicPr/>
          <p:nvPr/>
        </p:nvPicPr>
        <p:blipFill>
          <a:blip r:embed="rId4"/>
          <a:stretch/>
        </p:blipFill>
        <p:spPr>
          <a:xfrm>
            <a:off x="1066680" y="38098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9"/>
          <p:cNvSpPr/>
          <p:nvPr/>
        </p:nvSpPr>
        <p:spPr>
          <a:xfrm>
            <a:off x="2354400" y="3990960"/>
            <a:ext cx="633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Адаммен тез тіл табыса алады, көпшіл. Ол басқалармен қарым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қатынас жасап, сөйлесе жүріп өз жұмысын бітіреді. Адамдардың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арасындағы жайлылықты ең алдыңғы орынға қояды. Егер де оға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тапсырма берсе, ол басқа біреумен ақылдасады.</a:t>
            </a:r>
            <a:r>
              <a:rPr b="1" i="1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0" descr="m-n_XIR7W84"/>
          <p:cNvPicPr/>
          <p:nvPr/>
        </p:nvPicPr>
        <p:blipFill>
          <a:blip r:embed="rId5"/>
          <a:stretch/>
        </p:blipFill>
        <p:spPr>
          <a:xfrm>
            <a:off x="914400" y="5410080"/>
            <a:ext cx="1523880" cy="9860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1"/>
          <p:cNvSpPr/>
          <p:nvPr/>
        </p:nvSpPr>
        <p:spPr>
          <a:xfrm>
            <a:off x="2427840" y="5256000"/>
            <a:ext cx="6071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Шығармашыл, ерекшелігі көрініп тұра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ны күнделікті жағдай тез шаршатады, сондықтан да ол жаң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геше бір нәрсемен шұғылдану қажет. Егер де оның алды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қандай да бір міндет қойса, оның алдында жаңа идеялар 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жаңа жобалар дайын тұр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762120" y="152280"/>
            <a:ext cx="81532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Амандасу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Алдымен бір- бірімізбен амандасып алайық. Амандасуды кішкене өзгеше өткізгім келіп тұ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аршы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белгілер қол алып амандасады,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үшбұрыш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дауыс арқыл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ңбер 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мимика арқылы,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ирек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бас изеу арқылы бір -бірімізбен амандасып алайық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74640" y="2744280"/>
            <a:ext cx="860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 тәрбиесі-қызығы мен қиыншылығы қатар жүретін күрделі процес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«Балапан ұяда нені көрсе, ұшқанда соны іледі» демекші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 әкеден ақыл, анадан мейірім а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Отбасы -адамзат бесігін тербеткен ұя болса, сол отбасындағ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ның басты ұстазы-ата-а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ереке, бірлігі мол үлгілі отбасында тәрбиеленген баланың та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жүйесі мейлінше ауқымды, болашақ өркениетке қосар үлесі б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3300"/>
                </a:solidFill>
                <a:latin typeface="Arial"/>
              </a:rPr>
              <a:t>«Жас көңіл тың жер тәрізді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3300"/>
                </a:solidFill>
                <a:latin typeface="Arial"/>
              </a:rPr>
              <a:t>Не ексең сол шығады, әрі мол шығад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деп әйгілі, атақты Ғабиден Мұстафин айтқанда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отбасы- баланың тәрбиесінің айнас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Демек, баланы  отбасынан тануға болады, яғни ата-анасың бір- біріме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ата-анасының баласымен қарым қатына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қандай екенің өз көзқарасынды қалыптастыруға бо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371600" y="304920"/>
            <a:ext cx="731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Не ексең, соны орасың"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219320" y="973800"/>
            <a:ext cx="70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Алла мықты жаратқан сегіз батыр,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Баяғыдан соғысып әлі жатыр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Кезек-кезек жығылып, жатып тұрып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Кім жеңері белгісіз түбінде ақы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         </a:t>
            </a:r>
            <a:r>
              <a:rPr b="1" i="1" lang="ru-RU" sz="2000" spc="-1" strike="noStrike">
                <a:solidFill>
                  <a:srgbClr val="0000a4"/>
                </a:solidFill>
                <a:latin typeface="Arial"/>
              </a:rPr>
              <a:t>АБ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979200" y="2819520"/>
            <a:ext cx="816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Міне, осы жұмбақтың жауабы сегіз батырдың біріншісі «жақсылық» болс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екіншісі «жамандық» екен. Кез келген адамнан ол екеуін табу үші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йнадағы бейнемізге қарап ойланамы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л, енді сіздер берілген парақтың оң жағына жақсы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сол жағына жаман қасиеттеріңізді жазасызд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42040" y="4419360"/>
            <a:ext cx="81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Жаман қасиеттеріңізден арылғыларыңыз келе ме? Ендеше жам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қасиеттеріңізді бөліп жыртып алып «менің бойымнан осы жаман қасие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мәңгіге жоғалсын» — деп айтып ұсақтап жыртып т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295280" y="5730120"/>
            <a:ext cx="7477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Қорытынды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a4"/>
                </a:solidFill>
                <a:latin typeface="Arial"/>
              </a:rPr>
              <a:t>Бала ата-ананың айнасы-демекші, баламыздың  бойына өз бойымыздағы жақсы қасиеттерді сіңіре біл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C:\Users\ПК\Desktop\ата-ана жиналысы\P71223-154150.jpg"/>
          <p:cNvPicPr/>
          <p:nvPr/>
        </p:nvPicPr>
        <p:blipFill>
          <a:blip r:embed="rId2"/>
          <a:stretch/>
        </p:blipFill>
        <p:spPr>
          <a:xfrm>
            <a:off x="6629400" y="685800"/>
            <a:ext cx="228600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C:\Users\ПК\Desktop\ата-ана жиналысы\P71223-154150.jpg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1-03T03:58:44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