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wmf" ContentType="image/x-wmf"/>
  <Override PartName="/ppt/media/image20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15.jpeg" ContentType="image/jpeg"/>
  <Override PartName="/ppt/media/image12.jpeg" ContentType="image/jpeg"/>
  <Override PartName="/ppt/media/image37.jpeg" ContentType="image/jpeg"/>
  <Override PartName="/ppt/media/image29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2.jpeg" ContentType="image/jpeg"/>
  <Override PartName="/ppt/media/image13.jpeg" ContentType="image/jpeg"/>
  <Override PartName="/ppt/media/image40.jpeg" ContentType="image/jpeg"/>
  <Override PartName="/ppt/media/image36.jpeg" ContentType="image/jpeg"/>
  <Override PartName="/ppt/media/image28.jpeg" ContentType="image/jpeg"/>
  <Override PartName="/ppt/media/image6.jpeg" ContentType="image/jpeg"/>
  <Override PartName="/ppt/media/image33.jpeg" ContentType="image/jpeg"/>
  <Override PartName="/ppt/media/image34.gif" ContentType="image/gif"/>
  <Override PartName="/ppt/media/image4.gif" ContentType="image/gif"/>
  <Override PartName="/ppt/media/image3.png" ContentType="image/png"/>
  <Override PartName="/ppt/media/image26.png" ContentType="image/png"/>
  <Override PartName="/ppt/media/image9.jpeg" ContentType="image/jpeg"/>
  <Override PartName="/ppt/media/image11.png" ContentType="image/png"/>
  <Override PartName="/ppt/media/image25.png" ContentType="image/png"/>
  <Override PartName="/ppt/media/image19.jpeg" ContentType="image/jpeg"/>
  <Override PartName="/ppt/media/image38.jpeg" ContentType="image/jpeg"/>
  <Override PartName="/ppt/media/image7.jpeg" ContentType="image/jpeg"/>
  <Override PartName="/ppt/media/image1.wmf" ContentType="image/x-wmf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7F75-DEB7-4010-B941-AD9AE3B25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49A7-1C54-4724-B74A-10B0DE4CDC0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967-02F8-40F8-9020-4ACB221A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92B8-A761-4090-9510-93093F4C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0F3-74E0-4585-857E-747CCB14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1E68-4057-49D3-9CA1-4B842FD41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C08-764B-408C-95EF-9B48A99D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EF4F-CBF0-43DE-B6BA-8FCCF8A95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CD96-F16B-4D25-A23C-C5546FEBB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436D-F328-4168-9CC6-3B360B5A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1C1-7EC0-4F5D-8D6A-03A2C6E6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772-3955-4E0E-AD96-78D94712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62E0-CF2F-40E5-BE8E-9E6FA7DF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C98-7C31-42A1-B0D8-FA314367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24EA6-A610-4381-9AB0-0A6065D6C8F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wmf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.wmf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1.wmf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wmf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image" Target="../media/image30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52a6e3dc8f1e1 (1)"/>
          <p:cNvPicPr/>
          <p:nvPr/>
        </p:nvPicPr>
        <p:blipFill>
          <a:blip r:embed="rId2"/>
          <a:stretch/>
        </p:blipFill>
        <p:spPr>
          <a:xfrm>
            <a:off x="1066680" y="762120"/>
            <a:ext cx="7848720" cy="49942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1905120" y="5185800"/>
            <a:ext cx="601956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cc99"/>
                </a:solidFill>
                <a:latin typeface="Arial"/>
              </a:rPr>
              <a:t>2-сынып  жетекшісі:  Молдабаева Р.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752480" y="1219320"/>
            <a:ext cx="6629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Педагогикалық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шеберхана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түрінде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өткізілген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ата-аналар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жиналы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3" descr="uch_i_bat"/>
          <p:cNvPicPr/>
          <p:nvPr/>
        </p:nvPicPr>
        <p:blipFill>
          <a:blip r:embed="rId1"/>
          <a:stretch/>
        </p:blipFill>
        <p:spPr>
          <a:xfrm>
            <a:off x="914400" y="152280"/>
            <a:ext cx="1981080" cy="1676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j0157995"/>
          <p:cNvPicPr/>
          <p:nvPr/>
        </p:nvPicPr>
        <p:blipFill>
          <a:blip r:embed="rId2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96" name="WordArt 5"/>
          <p:cNvSpPr txBox="1"/>
          <p:nvPr/>
        </p:nvSpPr>
        <p:spPr>
          <a:xfrm>
            <a:off x="3657600" y="457200"/>
            <a:ext cx="4648320" cy="5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 Kaz"/>
              </a:rPr>
              <a:t>Ой қозғау</a:t>
            </a:r>
            <a:endParaRPr b="0" lang="en-US" sz="3200" spc="1" strike="noStrike">
              <a:ln w="9360">
                <a:solidFill>
                  <a:srgbClr val="ff0000"/>
                </a:solidFill>
                <a:miter/>
              </a:ln>
              <a:solidFill>
                <a:srgbClr val="ff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 Kaz"/>
              <a:ea typeface="Arial Kaz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754560" y="1904040"/>
            <a:ext cx="82670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Ертеде жұрттың барлығына танымал бір данышп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тұрыпт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Бір адам оның барлығын біле бермейтінін дәлелдегісі келі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дына келеді. Ол алақанына бір көбелекті салы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нышпаннан сұрайд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«Айтшы, менің алақанымдағы көбелек тірі ме әлде өлі ме?»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 өзі ішінен ойлайды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«Егер де тірі десе мен оны қысып өлтіріп тастаймы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л егер өлі десе -ұшырып жіберемін.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нышпан ойланып тұрып : « </a:t>
            </a:r>
            <a:r>
              <a:rPr b="1" i="1" lang="kk-KZ" sz="28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» деп жауап беріпті.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762120" y="5105520"/>
            <a:ext cx="8510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Сұрақ: Данышпан не деп жауап берді?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33240" y="5867280"/>
            <a:ext cx="851076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“</a:t>
            </a:r>
            <a:r>
              <a:rPr b="0" lang="kk-KZ" sz="3500" spc="-1" strike="noStrike">
                <a:solidFill>
                  <a:srgbClr val="cc0000"/>
                </a:solidFill>
                <a:latin typeface="Arial"/>
              </a:rPr>
              <a:t>Бәрі де өз қолыңда” деп жауап беріпті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9" descr="C:\Users\ПК\Desktop\ата-ана жиналысы\P71223-154402.jpg"/>
          <p:cNvPicPr/>
          <p:nvPr/>
        </p:nvPicPr>
        <p:blipFill>
          <a:blip r:embed="rId3"/>
          <a:stretch/>
        </p:blipFill>
        <p:spPr>
          <a:xfrm>
            <a:off x="685800" y="0"/>
            <a:ext cx="2438280" cy="1967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9" descr="C:\Users\ПК\Desktop\ата-ана жиналысы\P71223-154402.jpg"/>
          <p:cNvPicPr/>
          <p:nvPr/>
        </p:nvPicPr>
        <p:blipFill>
          <a:blip r:embed="rId1"/>
          <a:stretch/>
        </p:blipFill>
        <p:spPr>
          <a:xfrm>
            <a:off x="609480" y="228600"/>
            <a:ext cx="80010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4" descr="408"/>
          <p:cNvPicPr/>
          <p:nvPr/>
        </p:nvPicPr>
        <p:blipFill>
          <a:blip r:embed="rId1"/>
          <a:stretch/>
        </p:blipFill>
        <p:spPr>
          <a:xfrm rot="16200000">
            <a:off x="5738760" y="3147840"/>
            <a:ext cx="6400800" cy="4096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408"/>
          <p:cNvPicPr/>
          <p:nvPr/>
        </p:nvPicPr>
        <p:blipFill>
          <a:blip r:embed="rId2"/>
          <a:stretch/>
        </p:blipFill>
        <p:spPr>
          <a:xfrm rot="10800000">
            <a:off x="837720" y="6448320"/>
            <a:ext cx="7543800" cy="4096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1"/>
          <p:cNvSpPr/>
          <p:nvPr/>
        </p:nvSpPr>
        <p:spPr>
          <a:xfrm>
            <a:off x="533520" y="152640"/>
            <a:ext cx="8001000" cy="2288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Баланы жастан бақпасаң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Жамандықтан қақпасаң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Қадірден жұрдай қасқа боп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ff3300"/>
                </a:solidFill>
                <a:latin typeface="Arial"/>
              </a:rPr>
              <a:t>Кешкенің өмір босқа т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-дегендей,баласының ыстық-суығына күймейтін,жақсылығына сүйінбейтін ата-ана жоқ шығар,сірә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Олай болса,бауыр етіңіз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балаларыңызды жақсы көріп,еміренгенде не дейсіздер?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3811680" y="2819160"/>
            <a:ext cx="467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Құрметті ата-аналар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енді түрлі-түсті бояуды пайдаланып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үлкен жүректің суретін салайық.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3733920" y="3809520"/>
            <a:ext cx="44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Ашуыңызға тигенд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шыныңызды жазыңыздарш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қандай сөздерді көп қолданасыздар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6" descr="j0157995"/>
          <p:cNvPicPr/>
          <p:nvPr/>
        </p:nvPicPr>
        <p:blipFill>
          <a:blip r:embed="rId3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img4"/>
          <p:cNvPicPr/>
          <p:nvPr/>
        </p:nvPicPr>
        <p:blipFill>
          <a:blip r:embed="rId4"/>
          <a:stretch/>
        </p:blipFill>
        <p:spPr>
          <a:xfrm>
            <a:off x="914400" y="29718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C:\Users\ПК\Desktop\ата-ана жиналысы\P71223-155156.jpg"/>
          <p:cNvPicPr/>
          <p:nvPr/>
        </p:nvPicPr>
        <p:blipFill>
          <a:blip r:embed="rId5"/>
          <a:stretch/>
        </p:blipFill>
        <p:spPr>
          <a:xfrm>
            <a:off x="914400" y="2438280"/>
            <a:ext cx="274320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0" descr="C:\Users\ПК\Desktop\ата-ана жиналысы\P71223-155156.jpg"/>
          <p:cNvPicPr/>
          <p:nvPr/>
        </p:nvPicPr>
        <p:blipFill>
          <a:blip r:embed="rId1"/>
          <a:stretch/>
        </p:blipFill>
        <p:spPr>
          <a:xfrm>
            <a:off x="228600" y="380880"/>
            <a:ext cx="4267080" cy="6019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Users\ПК\Desktop\2 сынып\ТӘРБИЕ\Ата-ана жиналысы\ата-ана жиналысы\P71223-155124.jpg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32880" y="4572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“</a:t>
            </a: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Ата-аналардың басты қателігі-олардың ең алдымен өздерін тәрбиелеп алмай,балаларын тәрбиелеуге тырысатындығын-да” </a:t>
            </a:r>
            <a:br>
              <a:rPr sz="2800"/>
            </a:br>
            <a:r>
              <a:rPr b="0" lang="kk-KZ" sz="2800" spc="-1" strike="noStrike">
                <a:solidFill>
                  <a:srgbClr val="0000a4"/>
                </a:solidFill>
                <a:latin typeface="Arial"/>
              </a:rPr>
              <a:t>                                                       </a:t>
            </a:r>
            <a:r>
              <a:rPr b="0" lang="kk-KZ" sz="2800" spc="-1" strike="noStrike">
                <a:solidFill>
                  <a:srgbClr val="cc0000"/>
                </a:solidFill>
                <a:latin typeface="Arial"/>
              </a:rPr>
              <a:t>Л.Н.Толстой.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3" name="Picture 17" descr="love-403"/>
          <p:cNvPicPr/>
          <p:nvPr/>
        </p:nvPicPr>
        <p:blipFill>
          <a:blip r:embed="rId1"/>
          <a:stretch/>
        </p:blipFill>
        <p:spPr>
          <a:xfrm>
            <a:off x="609480" y="3124080"/>
            <a:ext cx="2362320" cy="198144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Object 20"/>
          <p:cNvGraphicFramePr/>
          <p:nvPr/>
        </p:nvGraphicFramePr>
        <p:xfrm>
          <a:off x="3048120" y="2362320"/>
          <a:ext cx="5943600" cy="422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59436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8" name="Picture 6" descr="j0157995"/>
          <p:cNvPicPr/>
          <p:nvPr/>
        </p:nvPicPr>
        <p:blipFill>
          <a:blip r:embed="rId4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Users\ПК\Desktop\ата-ана жиналысы\P71223-154212.jpg"/>
          <p:cNvPicPr/>
          <p:nvPr/>
        </p:nvPicPr>
        <p:blipFill>
          <a:blip r:embed="rId5"/>
          <a:stretch/>
        </p:blipFill>
        <p:spPr>
          <a:xfrm>
            <a:off x="762120" y="2286000"/>
            <a:ext cx="2361960" cy="41911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:\Users\ПК\Desktop\ата-ана жиналысы\P71223-154130.jpg"/>
          <p:cNvPicPr/>
          <p:nvPr/>
        </p:nvPicPr>
        <p:blipFill>
          <a:blip r:embed="rId6"/>
          <a:stretch/>
        </p:blipFill>
        <p:spPr>
          <a:xfrm>
            <a:off x="4876920" y="3429000"/>
            <a:ext cx="2238120" cy="2209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C:\Users\ПК\Desktop\ата-ана жиналысы\P71223-154212.jpg"/>
          <p:cNvPicPr/>
          <p:nvPr/>
        </p:nvPicPr>
        <p:blipFill>
          <a:blip r:embed="rId1"/>
          <a:stretch/>
        </p:blipFill>
        <p:spPr>
          <a:xfrm>
            <a:off x="609480" y="53352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ПК\Desktop\ата-ана жиналысы\P71223-154130.jpg"/>
          <p:cNvPicPr/>
          <p:nvPr/>
        </p:nvPicPr>
        <p:blipFill>
          <a:blip r:embed="rId2"/>
          <a:stretch/>
        </p:blipFill>
        <p:spPr>
          <a:xfrm>
            <a:off x="4876920" y="533520"/>
            <a:ext cx="38862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2"/>
          <p:cNvSpPr txBox="1"/>
          <p:nvPr/>
        </p:nvSpPr>
        <p:spPr>
          <a:xfrm>
            <a:off x="2286000" y="228600"/>
            <a:ext cx="44956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Kaz"/>
              </a:rPr>
              <a:t>ӨСИЕТ ӘҢГІМЕ</a:t>
            </a:r>
            <a:endParaRPr b="0" lang="en-US" sz="2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Kaz"/>
              <a:ea typeface="Arial Kaz"/>
            </a:endParaRPr>
          </a:p>
        </p:txBody>
      </p:sp>
      <p:pic>
        <p:nvPicPr>
          <p:cNvPr id="124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j0440405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189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906840" y="1217520"/>
            <a:ext cx="8087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ағдайлы бір отбасы баласын ешкімн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кем өсіргісі келмей барлық жағдайын жасай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Қазіргі заманның озық технологиясымен жасалынға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ойыншықтар, компьютер, тіптен қымбат телефонды да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лып береді. Бірақ баласы осының бәріне қанағаттанба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күнде ата-анасының жұмысқа кетпеуін өтінеді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 жұмысқа бармаса болмайтынын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қша табатынын баласына түсіндіреді. Ал, баласы осы сәтт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ның күніне қанша ақша табатынын сұрап біле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Бала сол күннен бастап ата-анасының өзіне тастап кетіп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үрген ақшасын жұмсамай жинай бастайд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Жинаған ақшасы ата-анасының бір күнді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табысына жеткен күні ба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a4"/>
                </a:solidFill>
                <a:latin typeface="Arial"/>
              </a:rPr>
              <a:t>ата-анасына өтініш жасай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914400" y="5790960"/>
            <a:ext cx="7772400" cy="916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— </a:t>
            </a: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Әке, ана! Бүгін жұмысқа бармай бір күндеріңізді маған қиыңыздарш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cc"/>
                </a:solidFill>
                <a:latin typeface="Arial"/>
              </a:rPr>
              <a:t>Бір күнгі табыстарыңызды мен төлейін депті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5" descr="f1 (47)"/>
          <p:cNvPicPr/>
          <p:nvPr/>
        </p:nvPicPr>
        <p:blipFill>
          <a:blip r:embed="rId1"/>
          <a:stretch/>
        </p:blipFill>
        <p:spPr>
          <a:xfrm>
            <a:off x="6934320" y="4724280"/>
            <a:ext cx="1447560" cy="14115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9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914400" y="306000"/>
            <a:ext cx="7620120" cy="4513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a4"/>
                </a:solidFill>
                <a:latin typeface="Arial"/>
              </a:rPr>
              <a:t>Тапсырма: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та-аналар, сіздер қазір көбелектің суретін саласызд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5 минут қана уақыт беріледі, алдарыңыздағы бояудың сан түрін пайдаланып, әдемі көбелектің суретін бейнелеңізд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Көбелек суретіне  қойылатын критерий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1.  Суреттің  бетте орналасу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2. суреттің көлемі</a:t>
            </a:r>
            <a:br>
              <a:rPr sz="1800"/>
            </a:b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3. бояуының қанықтығы, дұрыс боялуы</a:t>
            </a:r>
            <a:br>
              <a:rPr sz="1800"/>
            </a:b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4. қанаттарының симметриялы болуы.</a:t>
            </a:r>
            <a:br>
              <a:rPr sz="1800"/>
            </a:br>
            <a:r>
              <a:rPr b="1" i="1" lang="ru-RU" sz="1800" spc="-1" strike="noStrike">
                <a:solidFill>
                  <a:srgbClr val="0000a4"/>
                </a:solidFill>
                <a:latin typeface="Arial"/>
              </a:rPr>
              <a:t>5. барлық мүшелерінің болу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6" descr="j0157995"/>
          <p:cNvPicPr/>
          <p:nvPr/>
        </p:nvPicPr>
        <p:blipFill>
          <a:blip r:embed="rId2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C:\Users\ПК\Desktop\ата-ана жиналысы\P71223-152751.jpg"/>
          <p:cNvPicPr/>
          <p:nvPr/>
        </p:nvPicPr>
        <p:blipFill>
          <a:blip r:embed="rId3"/>
          <a:stretch/>
        </p:blipFill>
        <p:spPr>
          <a:xfrm>
            <a:off x="838080" y="3809880"/>
            <a:ext cx="2133720" cy="2789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C:\Users\ПК\Desktop\ата-ана жиналысы\P71223-153025.jpg"/>
          <p:cNvPicPr/>
          <p:nvPr/>
        </p:nvPicPr>
        <p:blipFill>
          <a:blip r:embed="rId4"/>
          <a:stretch/>
        </p:blipFill>
        <p:spPr>
          <a:xfrm>
            <a:off x="3124080" y="3809880"/>
            <a:ext cx="1828800" cy="280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:\Users\ПК\Desktop\ата-ана жиналысы\P71223-154118.jpg"/>
          <p:cNvPicPr/>
          <p:nvPr/>
        </p:nvPicPr>
        <p:blipFill>
          <a:blip r:embed="rId5"/>
          <a:stretch/>
        </p:blipFill>
        <p:spPr>
          <a:xfrm>
            <a:off x="5029200" y="3809880"/>
            <a:ext cx="2009880" cy="2819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2" descr="C:\Users\ПК\Desktop\ата-ана жиналысы\P71223-154207.jpg"/>
          <p:cNvPicPr/>
          <p:nvPr/>
        </p:nvPicPr>
        <p:blipFill>
          <a:blip r:embed="rId6"/>
          <a:stretch/>
        </p:blipFill>
        <p:spPr>
          <a:xfrm>
            <a:off x="7086600" y="3809880"/>
            <a:ext cx="185724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8" descr="C:\Users\ПК\Desktop\ата-ана жиналысы\P71223-152751.jpg"/>
          <p:cNvPicPr/>
          <p:nvPr/>
        </p:nvPicPr>
        <p:blipFill>
          <a:blip r:embed="rId1"/>
          <a:stretch/>
        </p:blipFill>
        <p:spPr>
          <a:xfrm>
            <a:off x="380880" y="304920"/>
            <a:ext cx="4191120" cy="5943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Users\ПК\Desktop\ата-ана жиналысы\P71223-155412.jpg"/>
          <p:cNvPicPr/>
          <p:nvPr/>
        </p:nvPicPr>
        <p:blipFill>
          <a:blip r:embed="rId2"/>
          <a:stretch/>
        </p:blipFill>
        <p:spPr>
          <a:xfrm>
            <a:off x="4724280" y="304920"/>
            <a:ext cx="403884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1" descr="C:\Users\ПК\Desktop\ата-ана жиналысы\P71223-154118.jpg"/>
          <p:cNvPicPr/>
          <p:nvPr/>
        </p:nvPicPr>
        <p:blipFill>
          <a:blip r:embed="rId1"/>
          <a:stretch/>
        </p:blipFill>
        <p:spPr>
          <a:xfrm>
            <a:off x="380880" y="228600"/>
            <a:ext cx="4191120" cy="6248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Users\ПК\Desktop\ата-ана жиналысы\P71223-154207.jpg"/>
          <p:cNvPicPr/>
          <p:nvPr/>
        </p:nvPicPr>
        <p:blipFill>
          <a:blip r:embed="rId2"/>
          <a:stretch/>
        </p:blipFill>
        <p:spPr>
          <a:xfrm>
            <a:off x="4876920" y="380880"/>
            <a:ext cx="396216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10"/>
          <p:cNvSpPr txBox="1"/>
          <p:nvPr/>
        </p:nvSpPr>
        <p:spPr>
          <a:xfrm>
            <a:off x="3429000" y="685800"/>
            <a:ext cx="1028880" cy="106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3" name="Picture 6" descr="42"/>
          <p:cNvPicPr/>
          <p:nvPr/>
        </p:nvPicPr>
        <p:blipFill>
          <a:blip r:embed="rId3"/>
          <a:stretch/>
        </p:blipFill>
        <p:spPr>
          <a:xfrm>
            <a:off x="7620120" y="5516640"/>
            <a:ext cx="1763640" cy="134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j0123567"/>
          <p:cNvPicPr/>
          <p:nvPr/>
        </p:nvPicPr>
        <p:blipFill>
          <a:blip r:embed="rId4"/>
          <a:stretch/>
        </p:blipFill>
        <p:spPr>
          <a:xfrm flipH="1" rot="16200000">
            <a:off x="7232760" y="294480"/>
            <a:ext cx="2205000" cy="16160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j0123567"/>
          <p:cNvPicPr/>
          <p:nvPr/>
        </p:nvPicPr>
        <p:blipFill>
          <a:blip r:embed="rId5"/>
          <a:stretch/>
        </p:blipFill>
        <p:spPr>
          <a:xfrm flipH="1" rot="16200000">
            <a:off x="7232760" y="294480"/>
            <a:ext cx="2205000" cy="1616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914400" y="3810960"/>
            <a:ext cx="75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  <a:ea typeface="Arial"/>
              </a:rPr>
              <a:t>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6" descr="j0157995"/>
          <p:cNvPicPr/>
          <p:nvPr/>
        </p:nvPicPr>
        <p:blipFill>
          <a:blip r:embed="rId6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3"/>
          <p:cNvSpPr/>
          <p:nvPr/>
        </p:nvSpPr>
        <p:spPr>
          <a:xfrm>
            <a:off x="1116720" y="996840"/>
            <a:ext cx="7878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Мақсат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Оқушылардың жеке тұлға болып қалыптастасуы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та-ана мен сынып жетекшісінің  тығыз байланысы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маңызды екенін түсіндіру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Күтілетін нәтиже: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Arial"/>
              </a:rPr>
              <a:t>Ата-аналар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ктептегі тәрбие жұмысының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әтижелігі  өздерімен бірлескен әрекетте ғана  болатынын жә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ектеп пен отбасының ынтымақтастығын жүзеге асыру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ынып жетекшісі негізгі рөл атқаратынын түсінеді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14040" y="152280"/>
            <a:ext cx="7924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«Баға-еңбек жемісі»</a:t>
            </a:r>
            <a:br>
              <a:rPr sz="1400"/>
            </a:b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Ата-аналар қолдарыңызда смайликтер бар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Соларға қарай отырып қандай ой түюге бола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ұл қазіргі таңдағы  біздер сынып оқушыларына баға қоймаймыз. Сондықтан  осындай смайликтер арқылы баланың білім деңгейін бағалаймыз.</a:t>
            </a:r>
            <a:br>
              <a:rPr sz="1400"/>
            </a:b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та-аналар,сіздердің салған суреттеріңіздің ішінен ең жақ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       </a:t>
            </a: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ғаға лайығын тауып, өз бағаларыңызды беріңізде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л мұғалім үшін де  оқушы еңбегін, жұмысын бағалау өте қиын і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рлық талапқа сай келсе ғана  оқушы жақсы баға а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Дегенмен кейбір кеткен кемшіліктер үшін де оқушы еңбегіне сай бағаланады.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Баға бала көңіліне әсер етед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Осыны жеңудің  жолы қандай?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Көбінесе  жақсы баға қоймаған  мұғалімді кінәлап жатамыз.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Ал оқушыны қалай тәрбиелеу керек?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0000a4"/>
                </a:solidFill>
                <a:latin typeface="Arial"/>
              </a:rPr>
              <a:t> 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Users\ПК\Desktop\ата-ана жиналысы\P71223-155412.jpg"/>
          <p:cNvPicPr/>
          <p:nvPr/>
        </p:nvPicPr>
        <p:blipFill>
          <a:blip r:embed="rId2"/>
          <a:stretch/>
        </p:blipFill>
        <p:spPr>
          <a:xfrm>
            <a:off x="5715000" y="4114800"/>
            <a:ext cx="1752480" cy="16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C:\Users\ПК\Desktop\2 сынып\ТӘРБИЕ\Ата-ана жиналысы\ата-ана жиналысы\P71223-153240.jpg"/>
          <p:cNvPicPr/>
          <p:nvPr/>
        </p:nvPicPr>
        <p:blipFill>
          <a:blip r:embed="rId1"/>
          <a:stretch/>
        </p:blipFill>
        <p:spPr>
          <a:xfrm>
            <a:off x="4800600" y="228600"/>
            <a:ext cx="4068720" cy="586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Users\ПК\Desktop\ата-ана жиналысы\P71223-153025.jpg"/>
          <p:cNvPicPr/>
          <p:nvPr/>
        </p:nvPicPr>
        <p:blipFill>
          <a:blip r:embed="rId2"/>
          <a:stretch/>
        </p:blipFill>
        <p:spPr>
          <a:xfrm>
            <a:off x="380880" y="228600"/>
            <a:ext cx="3962520" cy="579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1143000" y="228600"/>
            <a:ext cx="7620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Arial Kaz"/>
              </a:rPr>
              <a:t>Баламен сөйлесудің 10 ережесі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Arial Kaz"/>
              <a:ea typeface="Arial Kaz"/>
            </a:endParaRPr>
          </a:p>
        </p:txBody>
      </p:sp>
      <p:pic>
        <p:nvPicPr>
          <p:cNvPr id="146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4"/>
          <p:cNvSpPr/>
          <p:nvPr/>
        </p:nvSpPr>
        <p:spPr>
          <a:xfrm>
            <a:off x="927000" y="867600"/>
            <a:ext cx="8217000" cy="5635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1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Үйге ашығып келмеңіз. Ашыққан адам шыдамсыз ,мазасыз бол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2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Өте шаршап қажымаңыз. Шамадан тыс физикалық, ақыл-ой жүктемелер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өзіңізді жайсыз сезінуге әкеледі. Жұмыстағы қиындыққа бала кінәлі емес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3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Кызметіңіз туралы айтқанда бала қызметтің одан маңызды екенін сезінбесін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Кызметіңіз сізге ұнайды, баланы-жақсы көрес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4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мен сөйлесу бәрінен де маңызды. Ас дайындауда немесе басқа жұмыс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рысында келген баланы итермеңіз 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-бұл адам ,  ал кешкі ас пен жұмысты күтуге бол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5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 көмекші әрі отбасының теңқұқылы мүшесі. Ыдыс жуу, еден жуу сияқт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үйдегі ең ұнамсыз жұмыстарды тапсырып ,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ны жалықтырмаңыз.  Неге қоқысты бала төгу керек?  Себебі, сіз бұйырасыз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6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. Бала арқылы мен білемге салмаңыз. Сіз ересексіз ,сондықтан көп білесіз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Егер де балаңыз басқалармен салыстырғанда өзіне 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өз күшіне сенімді болсын десеңіз , бала ересектердей ой түйетінін сезетіндей сөйлесің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7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Жұмыс-бұл жанұяны қамтамасыз ететін құрал. Егер өз өміріңіз үшін жұмыс маңызды болс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 өзін бақытсыз сезінеді және тез ержетуге асығ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8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Тыңдай біліңіз. Көпшілігімізге баланың ісі шала, сөзі маңызды емес деп санаймыз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Ол кішкентай болғанмен «глобальды»  болуы мүмкін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Негізінде оның ісі мен сөзі өзіміз сияқты маңызды.  Егер балаға сондай көзқарас танытсаңыз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онда ешқандай сенімділік болмай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9. 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 Баламен кеңесіңіз.  Өз ойларыңыз бен уайыммен бөлісіңіз.  Ақыл – кеңес сұраңыз және соған жүгініңіз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a4"/>
                </a:solidFill>
                <a:latin typeface="Arial"/>
              </a:rPr>
              <a:t>10.</a:t>
            </a: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  Тілім нан үшін қинай бермеңіз. Балаңыз Сізден материалды тәуелді екенін айтудан қашыңыз. 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Балада сізге ауыртпалық түсіремін деген ой туады, бұл баланы жаралайды..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a4"/>
                </a:solidFill>
                <a:latin typeface="Arial"/>
              </a:rPr>
              <a:t>Қарттық шағыңызда осындай жағдайлардан ұялуыңыз әбден мүмкі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9" descr="dividers_2001"/>
          <p:cNvPicPr/>
          <p:nvPr/>
        </p:nvPicPr>
        <p:blipFill>
          <a:blip r:embed="rId1"/>
          <a:stretch/>
        </p:blipFill>
        <p:spPr>
          <a:xfrm>
            <a:off x="324000" y="5923080"/>
            <a:ext cx="8820000" cy="93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49320" y="243000"/>
            <a:ext cx="8969400" cy="341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Ата –ананың, ұстаздың міндеті – баланың өзі жеке тұлға ретінд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дамуына жағдай жаса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Бір-бірімізбен өте жақсы түсінісіп жұмыс жасадық деп ойлаймы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Құрметті ата-аналар! Енді осы балапандарымызға жүрегімізд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шыққан жылы сөздеріңізбен, тілектеріңізді қағазға (жапырақ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жазып ағашты көркейтейі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Жүректен шыққан тілектеріңі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әрдайым жер бетіндегі балалард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00a4"/>
                </a:solidFill>
                <a:latin typeface="Arial"/>
              </a:rPr>
              <a:t>қолдап желеп-жебеп жүрсін дегім келеді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C:\Users\ПК\Desktop\ата-ана жиналысы\P71223-160004.jpg"/>
          <p:cNvPicPr/>
          <p:nvPr/>
        </p:nvPicPr>
        <p:blipFill>
          <a:blip r:embed="rId2"/>
          <a:stretch/>
        </p:blipFill>
        <p:spPr>
          <a:xfrm>
            <a:off x="3048120" y="3762360"/>
            <a:ext cx="2514600" cy="28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ПК\Desktop\2 сынып\ТӘРБИЕ\Ата-ана жиналысы\ата-ана жиналысы\P71223-155921.jpg"/>
          <p:cNvPicPr/>
          <p:nvPr/>
        </p:nvPicPr>
        <p:blipFill>
          <a:blip r:embed="rId1"/>
          <a:stretch/>
        </p:blipFill>
        <p:spPr>
          <a:xfrm>
            <a:off x="228600" y="304920"/>
            <a:ext cx="4343400" cy="6095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C:\Users\ПК\Desktop\2 сынып\ТӘРБИЕ\Ата-ана жиналысы\ата-ана жиналысы\P71223-155945.jpg"/>
          <p:cNvPicPr/>
          <p:nvPr/>
        </p:nvPicPr>
        <p:blipFill>
          <a:blip r:embed="rId2"/>
          <a:stretch/>
        </p:blipFill>
        <p:spPr>
          <a:xfrm>
            <a:off x="4724280" y="457200"/>
            <a:ext cx="411480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4" descr="408"/>
          <p:cNvPicPr/>
          <p:nvPr/>
        </p:nvPicPr>
        <p:blipFill>
          <a:blip r:embed="rId1"/>
          <a:stretch/>
        </p:blipFill>
        <p:spPr>
          <a:xfrm rot="16200000">
            <a:off x="-2195280" y="3033720"/>
            <a:ext cx="5105520" cy="4096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408"/>
          <p:cNvPicPr/>
          <p:nvPr/>
        </p:nvPicPr>
        <p:blipFill>
          <a:blip r:embed="rId2"/>
          <a:stretch/>
        </p:blipFill>
        <p:spPr>
          <a:xfrm rot="16200000">
            <a:off x="6262560" y="3186000"/>
            <a:ext cx="5105520" cy="409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408"/>
          <p:cNvPicPr/>
          <p:nvPr/>
        </p:nvPicPr>
        <p:blipFill>
          <a:blip r:embed="rId3"/>
          <a:stretch/>
        </p:blipFill>
        <p:spPr>
          <a:xfrm>
            <a:off x="2133720" y="6448320"/>
            <a:ext cx="5105160" cy="4096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7" descr="1416555396"/>
          <p:cNvPicPr/>
          <p:nvPr/>
        </p:nvPicPr>
        <p:blipFill>
          <a:blip r:embed="rId4"/>
          <a:stretch/>
        </p:blipFill>
        <p:spPr>
          <a:xfrm>
            <a:off x="990720" y="304920"/>
            <a:ext cx="2724120" cy="2192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8" descr="hello_html_47e78252"/>
          <p:cNvPicPr/>
          <p:nvPr/>
        </p:nvPicPr>
        <p:blipFill>
          <a:blip r:embed="rId5"/>
          <a:stretch/>
        </p:blipFill>
        <p:spPr>
          <a:xfrm>
            <a:off x="4038480" y="914400"/>
            <a:ext cx="4467240" cy="5477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Users\ПК\Desktop\ата-ана жиналысы\P71223-155930.jpg"/>
          <p:cNvPicPr/>
          <p:nvPr/>
        </p:nvPicPr>
        <p:blipFill>
          <a:blip r:embed="rId6"/>
          <a:stretch/>
        </p:blipFill>
        <p:spPr>
          <a:xfrm>
            <a:off x="685800" y="2514600"/>
            <a:ext cx="3200400" cy="397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914040" y="226080"/>
            <a:ext cx="794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үгінгі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иналысымызды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п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едагогикалық</a:t>
            </a:r>
            <a:r>
              <a:rPr b="1" i="1" lang="kk-KZ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3300"/>
                </a:solidFill>
                <a:latin typeface="Arial"/>
              </a:rPr>
              <a:t>шеберха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гізінде өткіземін.Бұл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та-ана мен мұғалімнің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ірігіп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ұмыс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істеу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әдісі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ндеше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үгін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әріміз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ірге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шеберханада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ұмыс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жасайтын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оламы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f1fdd1a4932f"/>
          <p:cNvPicPr/>
          <p:nvPr/>
        </p:nvPicPr>
        <p:blipFill>
          <a:blip r:embed="rId2"/>
          <a:stretch/>
        </p:blipFill>
        <p:spPr>
          <a:xfrm>
            <a:off x="2133720" y="24382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i (1)"/>
          <p:cNvPicPr/>
          <p:nvPr/>
        </p:nvPicPr>
        <p:blipFill>
          <a:blip r:embed="rId2"/>
          <a:stretch/>
        </p:blipFill>
        <p:spPr>
          <a:xfrm>
            <a:off x="6019920" y="304920"/>
            <a:ext cx="2124000" cy="20476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9240" y="457920"/>
            <a:ext cx="2990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Дөңгеленіп тұрайық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Керегені құрайық.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Уықтар боп иіліп,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Шаңыраққа киіліп</a:t>
            </a:r>
            <a:br>
              <a:rPr sz="2400"/>
            </a:br>
            <a:r>
              <a:rPr b="0" lang="ru-RU" sz="2400" spc="-1" strike="noStrike">
                <a:solidFill>
                  <a:srgbClr val="0000a4"/>
                </a:solidFill>
                <a:latin typeface="Arial"/>
              </a:rPr>
              <a:t>Киіз үйді құрайы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892080" y="2451960"/>
            <a:ext cx="7566120" cy="39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Міне сіздермен біз үлкен киіз үйді құрдық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Осы киіз үй сияқты біздің мектебіміздің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қабырғалары мықты болып, шаңырағ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a4"/>
                </a:solidFill>
                <a:latin typeface="Arial"/>
              </a:rPr>
              <a:t>биік болсын дегім келеді.</a:t>
            </a: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Бәріміз айнала шеңбер жасап, орнымыздан тұрайық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және әрбір ата-анан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          </a:t>
            </a: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«Бала үшін ата-ана кім?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0000a4"/>
                </a:solidFill>
                <a:latin typeface="Arial"/>
              </a:rPr>
              <a:t>деген сұраққа бір ауыз сөзбен жауап айтып          шығуды сұраймын</a:t>
            </a: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a4"/>
                </a:solidFill>
                <a:latin typeface="Arial"/>
              </a:rPr>
              <a:t>(Геометриялық фигураларды таңдап, орындарына отырады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6" descr="C:\Users\ПК\Desktop\ата-ана жиналысы\P71223-151531.jpg"/>
          <p:cNvPicPr/>
          <p:nvPr/>
        </p:nvPicPr>
        <p:blipFill>
          <a:blip r:embed="rId3"/>
          <a:stretch/>
        </p:blipFill>
        <p:spPr>
          <a:xfrm>
            <a:off x="685800" y="0"/>
            <a:ext cx="1628640" cy="24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Прямоугольник 1"/>
          <p:cNvSpPr/>
          <p:nvPr/>
        </p:nvSpPr>
        <p:spPr>
          <a:xfrm>
            <a:off x="3354120" y="324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6" descr="C:\Users\ПК\Desktop\ата-ана жиналысы\P71223-151531.jpg"/>
          <p:cNvPicPr/>
          <p:nvPr/>
        </p:nvPicPr>
        <p:blipFill>
          <a:blip r:embed="rId1"/>
          <a:stretch/>
        </p:blipFill>
        <p:spPr>
          <a:xfrm>
            <a:off x="228600" y="228600"/>
            <a:ext cx="4191120" cy="6400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Users\ПК\Desktop\ата-ана жиналысы\P71223-151445.jpg"/>
          <p:cNvPicPr/>
          <p:nvPr/>
        </p:nvPicPr>
        <p:blipFill>
          <a:blip r:embed="rId2"/>
          <a:stretch/>
        </p:blipFill>
        <p:spPr>
          <a:xfrm>
            <a:off x="4572000" y="228600"/>
            <a:ext cx="42372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1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Picture 12" descr="0008-008-Kvadrat"/>
          <p:cNvPicPr/>
          <p:nvPr/>
        </p:nvPicPr>
        <p:blipFill>
          <a:blip r:embed="rId2"/>
          <a:stretch/>
        </p:blipFill>
        <p:spPr>
          <a:xfrm>
            <a:off x="914400" y="762120"/>
            <a:ext cx="1447920" cy="108576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3"/>
          <p:cNvSpPr/>
          <p:nvPr/>
        </p:nvSpPr>
        <p:spPr>
          <a:xfrm>
            <a:off x="1518480" y="137160"/>
            <a:ext cx="741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Таңдаған фигураларыңыз бойынша мінездемеңіз: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2362320" y="915120"/>
            <a:ext cx="754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ін тұрақты ортада ыңғайлы сезінеді, нақты тапсырманы қалай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л барлығы белгіленген тәртіппен болғанын жақсы көред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Егер де оған тапсырма берсе, ол оны аяқтағанш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тіпті жалғыз қалса да, орнынан кетпейді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6" descr="55-triangle_illustration"/>
          <p:cNvPicPr/>
          <p:nvPr/>
        </p:nvPicPr>
        <p:blipFill>
          <a:blip r:embed="rId3"/>
          <a:stretch/>
        </p:blipFill>
        <p:spPr>
          <a:xfrm>
            <a:off x="1066680" y="2209680"/>
            <a:ext cx="1131840" cy="1257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17"/>
          <p:cNvSpPr/>
          <p:nvPr/>
        </p:nvSpPr>
        <p:spPr>
          <a:xfrm>
            <a:off x="2195280" y="2283840"/>
            <a:ext cx="7142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іне мақсат қояды. Ол үнемі жоспармен жүреді және сол жоспары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рындаған сайын одан ләззат алып алға қарай ұмтылады. Ол ірі ұзақ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мерзімді істерге көп көңіл бөледі де кішкентай бөлшектерге мән бермейді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Егер оған тапсырма берсе, ол алдымен өзіне мақсат қойып содан соң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ны орындау жоспарын құрады.</a:t>
            </a: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18" descr="3b6bd5fab17613e9ce93341f3cccbb4a8df170aa_large"/>
          <p:cNvPicPr/>
          <p:nvPr/>
        </p:nvPicPr>
        <p:blipFill>
          <a:blip r:embed="rId4"/>
          <a:stretch/>
        </p:blipFill>
        <p:spPr>
          <a:xfrm>
            <a:off x="1066680" y="38098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9"/>
          <p:cNvSpPr/>
          <p:nvPr/>
        </p:nvSpPr>
        <p:spPr>
          <a:xfrm>
            <a:off x="2354400" y="3990960"/>
            <a:ext cx="6339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Адаммен тез тіл табыса алады, көпшіл. Ол басқалармен қарым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қатынас жасап, сөйлесе жүріп өз жұмысын бітіреді. Адамдардың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арасындағы жайлылықты ең алдыңғы орынға қояды. Егер де оған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тапсырма берсе, ол басқа біреумен ақылдасады.</a:t>
            </a:r>
            <a:r>
              <a:rPr b="1" i="1" lang="ru-RU" sz="1400" spc="-1" strike="noStrike">
                <a:solidFill>
                  <a:srgbClr val="0000a4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20" descr="m-n_XIR7W84"/>
          <p:cNvPicPr/>
          <p:nvPr/>
        </p:nvPicPr>
        <p:blipFill>
          <a:blip r:embed="rId5"/>
          <a:stretch/>
        </p:blipFill>
        <p:spPr>
          <a:xfrm>
            <a:off x="914400" y="5410080"/>
            <a:ext cx="1523880" cy="9860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1"/>
          <p:cNvSpPr/>
          <p:nvPr/>
        </p:nvSpPr>
        <p:spPr>
          <a:xfrm>
            <a:off x="2427840" y="5256000"/>
            <a:ext cx="60710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Шығармашыл, ерекшелігі көрініп тұрады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Оны күнделікті жағдай тез шаршатады, сондықтан да ол жаң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өзгеше бір нәрсемен шұғылдану қажет. Егер де оның алдына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қандай да бір міндет қойса, оның алдында жаңа идеялар 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00a4"/>
                </a:solidFill>
                <a:latin typeface="Arial"/>
              </a:rPr>
              <a:t>жаңа жобалар дайын тұрад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3"/>
          <p:cNvSpPr/>
          <p:nvPr/>
        </p:nvSpPr>
        <p:spPr>
          <a:xfrm>
            <a:off x="762120" y="152280"/>
            <a:ext cx="815328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3300"/>
                </a:solidFill>
                <a:latin typeface="Arial"/>
              </a:rPr>
              <a:t>Амандасу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Алдымен бір- бірімізбен амандасып алайық. Амандасуды кішкене өзгеше өткізгім келіп тұ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аршы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белгілер қол алып амандасады,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 үшбұрыш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дауыс арқыл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шеңбер 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мимика арқылы, </a:t>
            </a:r>
            <a:r>
              <a:rPr b="1" i="1" lang="kk-KZ" sz="1800" spc="-1" strike="noStrike">
                <a:solidFill>
                  <a:srgbClr val="ff3300"/>
                </a:solidFill>
                <a:latin typeface="Arial"/>
              </a:rPr>
              <a:t>ирек</a:t>
            </a:r>
            <a:r>
              <a:rPr b="0" lang="kk-KZ" sz="1800" spc="-1" strike="noStrike">
                <a:solidFill>
                  <a:srgbClr val="0000a4"/>
                </a:solidFill>
                <a:latin typeface="Arial"/>
              </a:rPr>
              <a:t> бас изеу арқылы бір -бірімізбен амандасып алайық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674640" y="2744280"/>
            <a:ext cx="8605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 тәрбиесі-қызығы мен қиыншылығы қатар жүретін күрделі процесс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«Балапан ұяда нені көрсе, ұшқанда соны іледі» демекші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 әкеден ақыл, анадан мейірім а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Отбасы -адамзат бесігін тербеткен ұя болса, сол отбасындағ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аланың басты ұстазы-ата-а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Береке, бірлігі мол үлгілі отбасында тәрбиеленген баланың таным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жүйесі мейлінше ауқымды, болашақ өркениетке қосар үлесі б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3300"/>
                </a:solidFill>
                <a:latin typeface="Arial"/>
              </a:rPr>
              <a:t>«Жас көңіл тың жер тәрізді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3300"/>
                </a:solidFill>
                <a:latin typeface="Arial"/>
              </a:rPr>
              <a:t>Не ексең сол шығады, әрі мол шығады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деп әйгілі, атақты Ғабиден Мұстафин айтқандай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отбасы- баланың тәрбиесінің айнас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Демек, баланы  отбасынан тануға болады, яғни ата-анасың бір- біріме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ата-анасының баласымен қарым қатынас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a4"/>
                </a:solidFill>
                <a:latin typeface="Arial"/>
              </a:rPr>
              <a:t>қандай екенің өз көзқарасынды қалыптастыруға болад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2"/>
          <p:cNvSpPr txBox="1"/>
          <p:nvPr/>
        </p:nvSpPr>
        <p:spPr>
          <a:xfrm>
            <a:off x="1371600" y="304920"/>
            <a:ext cx="7315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Не ексең, соны орасың"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6" name="Picture 6" descr="j0157995"/>
          <p:cNvPicPr/>
          <p:nvPr/>
        </p:nvPicPr>
        <p:blipFill>
          <a:blip r:embed="rId1"/>
          <a:stretch/>
        </p:blipFill>
        <p:spPr>
          <a:xfrm rot="16200000">
            <a:off x="-3051000" y="3051000"/>
            <a:ext cx="685800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4"/>
          <p:cNvSpPr/>
          <p:nvPr/>
        </p:nvSpPr>
        <p:spPr>
          <a:xfrm>
            <a:off x="1219320" y="973800"/>
            <a:ext cx="708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Алла мықты жаратқан сегіз батыр,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Баяғыдан соғысып әлі жатыр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Кезек-кезек жығылып, жатып тұрып</a:t>
            </a:r>
            <a:br>
              <a:rPr sz="2000"/>
            </a:br>
            <a:r>
              <a:rPr b="0" lang="ru-RU" sz="2000" spc="-1" strike="noStrike">
                <a:solidFill>
                  <a:srgbClr val="0000a4"/>
                </a:solidFill>
                <a:latin typeface="Arial"/>
              </a:rPr>
              <a:t>Кім жеңері белгісіз түбінде ақыр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          </a:t>
            </a:r>
            <a:r>
              <a:rPr b="1" i="1" lang="ru-RU" sz="2000" spc="-1" strike="noStrike">
                <a:solidFill>
                  <a:srgbClr val="0000a4"/>
                </a:solidFill>
                <a:latin typeface="Arial"/>
              </a:rPr>
              <a:t>АБА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979200" y="2819520"/>
            <a:ext cx="8161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Міне, осы жұмбақтың жауабы сегіз батырдың біріншісі «жақсылық» болс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екіншісі «жамандық» екен. Кез келген адамнан ол екеуін табу үші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йнадағы бейнемізге қарап ойланамыз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Ал, енді сіздер берілген парақтың оң жағына жақсы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сол жағына жаман қасиеттеріңізді жазасыздар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842040" y="4419360"/>
            <a:ext cx="817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Жаман қасиеттеріңізден арылғыларыңыз келе ме? Ендеше жам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қасиеттеріңізді бөліп жыртып алып «менің бойымнан осы жаман қасиет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мәңгіге жоғалсын» — деп айтып ұсақтап жыртып тастаймы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1295280" y="5730120"/>
            <a:ext cx="7477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Қорытынды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a4"/>
                </a:solidFill>
                <a:latin typeface="Arial"/>
              </a:rPr>
              <a:t>Бала ата-ананың айнасы-демекші, баламыздың  бойына өз бойымыздағы жақсы қасиеттерді сіңіре білейі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8" descr="C:\Users\ПК\Desktop\ата-ана жиналысы\P71223-154150.jpg"/>
          <p:cNvPicPr/>
          <p:nvPr/>
        </p:nvPicPr>
        <p:blipFill>
          <a:blip r:embed="rId2"/>
          <a:stretch/>
        </p:blipFill>
        <p:spPr>
          <a:xfrm>
            <a:off x="6629400" y="685800"/>
            <a:ext cx="2286000" cy="209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C:\Users\ПК\Desktop\ата-ана жиналысы\P71223-154150.jpg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24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1-03T03:58:44Z</dcterms:modified>
  <cp:revision>1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