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9.png" ContentType="image/png"/>
  <Override PartName="/ppt/media/image6.gif" ContentType="image/gi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84F-96C0-4B13-8872-7B5B673C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4C9-F258-452E-AD21-442073F5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8BE-9629-4F68-BBD9-5D725033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B46-4999-40FD-872B-428A75B6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C745-24D4-4545-881E-DF2CF5B3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8190-76D9-4CE5-A54D-9FAD089B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BC44-81C8-4895-A656-04B02097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0479-5067-4A6D-BDCD-1EB02890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132D-5C0B-4C5D-9B53-AC810A13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3A9A-B8DA-443F-8292-19D01840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A4F2-D3B1-4047-8549-5D1CB203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256-20B9-4D60-827B-37BBBB1F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B656-9C93-4A69-A70D-29E096DB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496F-5B52-48B2-B2AC-E5D85884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DE33-8207-4DBD-AF29-F57847DD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CB44-E574-46E1-BBF7-B80F03E1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00AA-A472-4079-BE4E-907E30B5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6AA-3BC0-4797-80D9-83989728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37A-3A31-4692-A134-2430CC26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EBA-A630-453C-92C5-8D421552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4E5-1A37-482C-B7EE-E5914DA3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271-A990-4274-A547-F31BECF1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9E1-C21B-40D4-A27C-9E96BF2C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D3C-9790-48C8-B565-10988C77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BE21-3CB1-4A53-AC68-62529C44D5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>
              <a:gd name="textAreaLeft" fmla="*/ 0 w 3822840"/>
              <a:gd name="textAreaRight" fmla="*/ 3823200 w 3822840"/>
              <a:gd name="textAreaTop" fmla="*/ 0 h 6765840"/>
              <a:gd name="textAreaBottom" fmla="*/ 6766200 h 6765840"/>
            </a:gdLst>
            <a:ahLst/>
            <a:rect l="textAreaLeft" t="textAreaTop" r="textAreaRight" b="textAreaBottom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6640"/>
            <a:ext cx="7849080" cy="4858560"/>
            <a:chOff x="755640" y="1196640"/>
            <a:chExt cx="7849080" cy="4858560"/>
          </a:xfrm>
        </p:grpSpPr>
        <p:grpSp>
          <p:nvGrpSpPr>
            <p:cNvPr id="51" name="Group 80"/>
            <p:cNvGrpSpPr/>
            <p:nvPr/>
          </p:nvGrpSpPr>
          <p:grpSpPr>
            <a:xfrm>
              <a:off x="955440" y="1196640"/>
              <a:ext cx="927720" cy="4835520"/>
              <a:chOff x="955440" y="1196640"/>
              <a:chExt cx="927720" cy="483552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55440" y="1207440"/>
                <a:ext cx="0" cy="4808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54240" y="1196640"/>
                <a:ext cx="0" cy="4808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56924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88316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9920"/>
              <a:ext cx="7849080" cy="4345200"/>
              <a:chOff x="755640" y="1429920"/>
              <a:chExt cx="7849080" cy="434520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9920"/>
                <a:ext cx="7829280" cy="868680"/>
                <a:chOff x="755640" y="1429920"/>
                <a:chExt cx="7829280" cy="86868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99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8440" y="17193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2360" y="2004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3920" y="229860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5080" y="2580120"/>
                <a:ext cx="7829640" cy="873360"/>
                <a:chOff x="775080" y="2580120"/>
                <a:chExt cx="7829640" cy="87336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5080" y="2580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695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3240" y="31590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83000" y="345348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1560"/>
                <a:ext cx="7829280" cy="873360"/>
                <a:chOff x="755640" y="3751560"/>
                <a:chExt cx="7829280" cy="87336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15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8440" y="40442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2360" y="43329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3920" y="462492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5080" y="4902840"/>
                <a:ext cx="7829640" cy="872280"/>
                <a:chOff x="775080" y="4902840"/>
                <a:chExt cx="7829640" cy="87228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5080" y="4902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19588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3240" y="54831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83000" y="577512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10760" y="1222200"/>
              <a:ext cx="927720" cy="4833000"/>
              <a:chOff x="2210760" y="1222200"/>
              <a:chExt cx="927720" cy="483300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1076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0956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2924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3848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483360" y="1222200"/>
              <a:ext cx="927720" cy="4833000"/>
              <a:chOff x="3483360" y="1222200"/>
              <a:chExt cx="927720" cy="483300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48336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78360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0184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1108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56320" y="1222200"/>
              <a:ext cx="927720" cy="4833000"/>
              <a:chOff x="4756320" y="1222200"/>
              <a:chExt cx="927720" cy="483300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5632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5512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37012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68404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5974560" y="1222200"/>
              <a:ext cx="927720" cy="4833000"/>
              <a:chOff x="5974560" y="1222200"/>
              <a:chExt cx="927720" cy="483300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597456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27336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59304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0228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20880" y="1222200"/>
              <a:ext cx="927720" cy="4833000"/>
              <a:chOff x="7220880" y="1222200"/>
              <a:chExt cx="927720" cy="483300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2088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1968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3936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4860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>
              <a:gd name="textAreaLeft" fmla="*/ 0 w 8977320"/>
              <a:gd name="textAreaRight" fmla="*/ 8977320 w 89773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3EBE-F24F-4DC5-ADC9-E76F3816EC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5"/>
          <p:cNvSpPr/>
          <p:nvPr/>
        </p:nvSpPr>
        <p:spPr>
          <a:xfrm>
            <a:off x="714240" y="138600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71280" y="142920"/>
            <a:ext cx="835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8000" y="6215040"/>
            <a:ext cx="47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4d15"/>
                </a:solidFill>
                <a:latin typeface="Times New Roman"/>
                <a:ea typeface="Times New Roman"/>
              </a:rPr>
              <a:t>Заместитель директора Леонтьева О.А</a:t>
            </a:r>
            <a:r>
              <a:rPr b="0" lang="ru-RU" sz="2000" spc="-1" strike="noStrike">
                <a:solidFill>
                  <a:srgbClr val="dde89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928800" y="2214720"/>
            <a:ext cx="72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c2f13"/>
                </a:solidFill>
                <a:latin typeface="Times New Roman"/>
                <a:ea typeface="Times New Roman"/>
              </a:rPr>
              <a:t>«Развитие функциональной грамотности через участие в образовательных интернет- проектах»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1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4"/>
          <p:cNvSpPr/>
          <p:nvPr/>
        </p:nvSpPr>
        <p:spPr>
          <a:xfrm>
            <a:off x="357120" y="1143000"/>
            <a:ext cx="5929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el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kz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730080" y="857160"/>
            <a:ext cx="70264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2f13"/>
                </a:solidFill>
                <a:latin typeface="Times New Roman"/>
                <a:ea typeface="Times New Roman"/>
              </a:rPr>
              <a:t>Внеклассные мероприятия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2f1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c2f13"/>
                </a:solidFill>
                <a:latin typeface="Times New Roman"/>
                <a:ea typeface="Times New Roman"/>
              </a:rPr>
              <a:t>направленные на развитие функциональной грамотности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92160" y="1643040"/>
            <a:ext cx="2550960" cy="703800"/>
          </a:xfrm>
          <a:prstGeom prst="rect">
            <a:avLst/>
          </a:prstGeom>
          <a:solidFill>
            <a:srgbClr val="b9d1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станционные конкурсы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85840" y="2994120"/>
            <a:ext cx="2286000" cy="106740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«Золотое руно», «Британский Бульдог» 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http://runodog.ru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285840" y="4313160"/>
            <a:ext cx="2214360" cy="82404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«Русский медвежонок» 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http://www.rm.kirov.ru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214200" y="5345280"/>
            <a:ext cx="2428920" cy="58068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енгуру- лингвист», «Кенгуру- математик»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2" name="Прямоугольник 11"/>
          <p:cNvSpPr/>
          <p:nvPr/>
        </p:nvSpPr>
        <p:spPr>
          <a:xfrm>
            <a:off x="6300360" y="1630440"/>
            <a:ext cx="2408760" cy="368280"/>
          </a:xfrm>
          <a:prstGeom prst="rect">
            <a:avLst/>
          </a:prstGeom>
          <a:solidFill>
            <a:srgbClr val="b9d1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нтернет- проекты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5786280" y="2065320"/>
            <a:ext cx="3286440" cy="106740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Дисстанционые олимпиады по общеобразовательным предметам «Костанай дарыны» 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http://kostdaryny.web-box.ru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4" name="Прямоугольник 16"/>
          <p:cNvSpPr/>
          <p:nvPr/>
        </p:nvSpPr>
        <p:spPr>
          <a:xfrm>
            <a:off x="5786280" y="3241800"/>
            <a:ext cx="3214800" cy="82404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Дисстанционые Казахстанские интернет- олимпиады (КИО)</a:t>
            </a:r>
            <a:r>
              <a:rPr b="0" lang="ru-RU" sz="1600" spc="-1" strike="noStrike" u="sng">
                <a:solidFill>
                  <a:srgbClr val="dde89a"/>
                </a:solidFill>
                <a:uFillTx/>
                <a:latin typeface="Arial"/>
              </a:rPr>
              <a:t> http://cdo.kz</a:t>
            </a: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5" name="Прямоугольник 17"/>
          <p:cNvSpPr/>
          <p:nvPr/>
        </p:nvSpPr>
        <p:spPr>
          <a:xfrm>
            <a:off x="5857920" y="4143240"/>
            <a:ext cx="3214800" cy="82404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Международная олимпиада по основам наук (для учащихся 1-11 классов) </a:t>
            </a:r>
            <a:r>
              <a:rPr b="0" lang="ru-RU" sz="1600" spc="-1" strike="noStrike" u="sng">
                <a:solidFill>
                  <a:srgbClr val="0c2f13"/>
                </a:solidFill>
                <a:uFillTx/>
                <a:latin typeface="Arial"/>
              </a:rPr>
              <a:t>http://www.urfodu.ru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6" name="Прямоугольник 18"/>
          <p:cNvSpPr/>
          <p:nvPr/>
        </p:nvSpPr>
        <p:spPr>
          <a:xfrm>
            <a:off x="5857920" y="5072040"/>
            <a:ext cx="3143160" cy="155412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Международный дистанционный конкурс «Грамотей- марафон»  и «ЭМУ- ЭРУДИТ»,«Центр Развития Молодёжи»г. Екатеринбург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cerm.ru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7" name="Прямоугольник 15"/>
          <p:cNvSpPr/>
          <p:nvPr/>
        </p:nvSpPr>
        <p:spPr>
          <a:xfrm>
            <a:off x="214200" y="2448000"/>
            <a:ext cx="2286000" cy="33732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«А</a:t>
            </a:r>
            <a:r>
              <a:rPr b="0" lang="kk-KZ" sz="1600" spc="-1" strike="noStrike">
                <a:solidFill>
                  <a:srgbClr val="0c2f13"/>
                </a:solidFill>
                <a:latin typeface="Arial"/>
              </a:rPr>
              <a:t>қ бота </a:t>
            </a: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3143160" y="1643040"/>
            <a:ext cx="2357640" cy="642600"/>
          </a:xfrm>
          <a:prstGeom prst="rect">
            <a:avLst/>
          </a:prstGeom>
          <a:solidFill>
            <a:srgbClr val="b9d1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едметные олимпиады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3143160" y="2571840"/>
            <a:ext cx="2357640" cy="916920"/>
          </a:xfrm>
          <a:prstGeom prst="rect">
            <a:avLst/>
          </a:prstGeom>
          <a:solidFill>
            <a:srgbClr val="b9d1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аучно-практические соревнования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715240" cy="54658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"/>
          <p:cNvSpPr/>
          <p:nvPr/>
        </p:nvSpPr>
        <p:spPr>
          <a:xfrm>
            <a:off x="285840" y="928800"/>
            <a:ext cx="4714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bf1c2"/>
                </a:solidFill>
                <a:uFillTx/>
                <a:latin typeface="Times New Roman"/>
                <a:ea typeface="Times New Roman"/>
              </a:rPr>
              <a:t>http://kostdaryny.web-box.ru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8853480" cy="35719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6"/>
          <p:cNvSpPr/>
          <p:nvPr/>
        </p:nvSpPr>
        <p:spPr>
          <a:xfrm>
            <a:off x="214200" y="171468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de89a"/>
                </a:solidFill>
                <a:uFillTx/>
                <a:latin typeface="Times New Roman"/>
                <a:ea typeface="Times New Roman"/>
              </a:rPr>
              <a:t>http://cdo.kz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0" y="788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2f13"/>
                </a:solidFill>
                <a:latin typeface="Calibri"/>
                <a:ea typeface="Times New Roman"/>
              </a:rPr>
              <a:t>Результативность участия в Казахстанских интернет- олимпиадах за первое полугодие 2012-2013 уч.года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14200" y="1428840"/>
          <a:ext cx="8643960" cy="5288040"/>
        </p:xfrm>
        <a:graphic>
          <a:graphicData uri="http://schemas.openxmlformats.org/drawingml/2006/table">
            <a:tbl>
              <a:tblPr/>
              <a:tblGrid>
                <a:gridCol w="3035520"/>
                <a:gridCol w="2732040"/>
                <a:gridCol w="2876400"/>
              </a:tblGrid>
              <a:tr h="3571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.И. ученика</a:t>
                      </a:r>
                      <a:endParaRPr b="0" lang="en-US" sz="1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</a:tr>
              <a:tr h="4525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Гаврилец Анн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Бронзовый призер 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50004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Кван Ян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Бронзовый призер 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42840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Лауб Геннадий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Всемирная история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Лучший результат города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35748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Аментаева Гульзинат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Казахский язык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Лучший результат школы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3571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Атымтаев Еламан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4237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Ильенко Анн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63108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Болонина Юлия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32544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Коломыцева Дарья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63180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Семениченко Константин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Казахский язык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3157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Верзакова Валерия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507600">
                <a:tc>
                  <a:txBody>
                    <a:bodyPr lIns="62640" rIns="62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Балмухамбетова Гульмира 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</a:tbl>
          </a:graphicData>
        </a:graphic>
      </p:graphicFrame>
      <p:pic>
        <p:nvPicPr>
          <p:cNvPr id="182" name="Picture 12" descr="3"/>
          <p:cNvPicPr/>
          <p:nvPr/>
        </p:nvPicPr>
        <p:blipFill>
          <a:blip r:embed="rId1"/>
          <a:stretch/>
        </p:blipFill>
        <p:spPr>
          <a:xfrm>
            <a:off x="0" y="0"/>
            <a:ext cx="533520" cy="7239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" descr="3"/>
          <p:cNvPicPr/>
          <p:nvPr/>
        </p:nvPicPr>
        <p:blipFill>
          <a:blip r:embed="rId2"/>
          <a:stretch/>
        </p:blipFill>
        <p:spPr>
          <a:xfrm>
            <a:off x="0" y="0"/>
            <a:ext cx="533520" cy="723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6"/>
          <p:cNvPicPr/>
          <p:nvPr/>
        </p:nvPicPr>
        <p:blipFill>
          <a:blip r:embed="rId3"/>
          <a:stretch/>
        </p:blipFill>
        <p:spPr>
          <a:xfrm>
            <a:off x="0" y="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6"/>
          <p:cNvPicPr/>
          <p:nvPr/>
        </p:nvPicPr>
        <p:blipFill>
          <a:blip r:embed="rId4"/>
          <a:stretch/>
        </p:blipFill>
        <p:spPr>
          <a:xfrm>
            <a:off x="0" y="0"/>
            <a:ext cx="438120" cy="59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4"/>
          <p:cNvPicPr/>
          <p:nvPr/>
        </p:nvPicPr>
        <p:blipFill>
          <a:blip r:embed="rId5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4"/>
          <p:cNvPicPr/>
          <p:nvPr/>
        </p:nvPicPr>
        <p:blipFill>
          <a:blip r:embed="rId6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4"/>
          <p:cNvPicPr/>
          <p:nvPr/>
        </p:nvPicPr>
        <p:blipFill>
          <a:blip r:embed="rId7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4"/>
          <p:cNvPicPr/>
          <p:nvPr/>
        </p:nvPicPr>
        <p:blipFill>
          <a:blip r:embed="rId8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4"/>
          <p:cNvPicPr/>
          <p:nvPr/>
        </p:nvPicPr>
        <p:blipFill>
          <a:blip r:embed="rId9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4"/>
          <p:cNvPicPr/>
          <p:nvPr/>
        </p:nvPicPr>
        <p:blipFill>
          <a:blip r:embed="rId10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" descr="4"/>
          <p:cNvPicPr/>
          <p:nvPr/>
        </p:nvPicPr>
        <p:blipFill>
          <a:blip r:embed="rId11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7" descr="C:\Users\леха\Desktop\4.png"/>
          <p:cNvPicPr/>
          <p:nvPr/>
        </p:nvPicPr>
        <p:blipFill>
          <a:blip r:embed="rId12"/>
          <a:stretch/>
        </p:blipFill>
        <p:spPr>
          <a:xfrm>
            <a:off x="214200" y="621504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8" descr="C:\Users\леха\Desktop\4.png"/>
          <p:cNvPicPr/>
          <p:nvPr/>
        </p:nvPicPr>
        <p:blipFill>
          <a:blip r:embed="rId13"/>
          <a:stretch/>
        </p:blipFill>
        <p:spPr>
          <a:xfrm>
            <a:off x="285840" y="585792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9" descr="C:\Users\леха\Desktop\4.png"/>
          <p:cNvPicPr/>
          <p:nvPr/>
        </p:nvPicPr>
        <p:blipFill>
          <a:blip r:embed="rId14"/>
          <a:stretch/>
        </p:blipFill>
        <p:spPr>
          <a:xfrm>
            <a:off x="285840" y="492912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20" descr="C:\Users\леха\Desktop\4.png"/>
          <p:cNvPicPr/>
          <p:nvPr/>
        </p:nvPicPr>
        <p:blipFill>
          <a:blip r:embed="rId15"/>
          <a:stretch/>
        </p:blipFill>
        <p:spPr>
          <a:xfrm>
            <a:off x="285840" y="542916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1" descr="C:\Users\леха\Desktop\4.png"/>
          <p:cNvPicPr/>
          <p:nvPr/>
        </p:nvPicPr>
        <p:blipFill>
          <a:blip r:embed="rId16"/>
          <a:stretch/>
        </p:blipFill>
        <p:spPr>
          <a:xfrm>
            <a:off x="285840" y="392904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22" descr="C:\Users\леха\Desktop\4.png"/>
          <p:cNvPicPr/>
          <p:nvPr/>
        </p:nvPicPr>
        <p:blipFill>
          <a:blip r:embed="rId17"/>
          <a:stretch/>
        </p:blipFill>
        <p:spPr>
          <a:xfrm>
            <a:off x="285840" y="442908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3" descr="C:\Users\леха\Desktop\4.png"/>
          <p:cNvPicPr/>
          <p:nvPr/>
        </p:nvPicPr>
        <p:blipFill>
          <a:blip r:embed="rId18"/>
          <a:stretch/>
        </p:blipFill>
        <p:spPr>
          <a:xfrm>
            <a:off x="285840" y="357192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5" descr="C:\Users\леха\Desktop\6.png"/>
          <p:cNvPicPr/>
          <p:nvPr/>
        </p:nvPicPr>
        <p:blipFill>
          <a:blip r:embed="rId19"/>
          <a:stretch/>
        </p:blipFill>
        <p:spPr>
          <a:xfrm>
            <a:off x="285840" y="3203640"/>
            <a:ext cx="290520" cy="3682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6" descr="C:\Users\леха\Desktop\6.png"/>
          <p:cNvPicPr/>
          <p:nvPr/>
        </p:nvPicPr>
        <p:blipFill>
          <a:blip r:embed="rId20"/>
          <a:stretch/>
        </p:blipFill>
        <p:spPr>
          <a:xfrm>
            <a:off x="285840" y="2774880"/>
            <a:ext cx="290520" cy="3682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7" descr="C:\Users\леха\Desktop\3.png"/>
          <p:cNvPicPr/>
          <p:nvPr/>
        </p:nvPicPr>
        <p:blipFill>
          <a:blip r:embed="rId21"/>
          <a:stretch/>
        </p:blipFill>
        <p:spPr>
          <a:xfrm>
            <a:off x="285840" y="2357280"/>
            <a:ext cx="338040" cy="3621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8" descr="C:\Users\леха\Desktop\3.png"/>
          <p:cNvPicPr/>
          <p:nvPr/>
        </p:nvPicPr>
        <p:blipFill>
          <a:blip r:embed="rId22"/>
          <a:stretch/>
        </p:blipFill>
        <p:spPr>
          <a:xfrm>
            <a:off x="285840" y="1857240"/>
            <a:ext cx="33804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0" y="1171440"/>
            <a:ext cx="9144000" cy="521028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6"/>
          <p:cNvSpPr/>
          <p:nvPr/>
        </p:nvSpPr>
        <p:spPr>
          <a:xfrm>
            <a:off x="142920" y="857160"/>
            <a:ext cx="328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c2f13"/>
                </a:solidFill>
                <a:uFillTx/>
                <a:latin typeface="Arial"/>
              </a:rPr>
              <a:t>http://www.urfodu.ru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501040" cy="554364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6"/>
          <p:cNvSpPr/>
          <p:nvPr/>
        </p:nvSpPr>
        <p:spPr>
          <a:xfrm>
            <a:off x="285840" y="857160"/>
            <a:ext cx="45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cerm.ru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3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8858160" cy="53164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6"/>
          <p:cNvSpPr/>
          <p:nvPr/>
        </p:nvSpPr>
        <p:spPr>
          <a:xfrm>
            <a:off x="142920" y="1000080"/>
            <a:ext cx="628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 u="sng">
                <a:solidFill>
                  <a:srgbClr val="dde89a"/>
                </a:solidFill>
                <a:uFillTx/>
                <a:latin typeface="Times New Roman"/>
                <a:ea typeface="Times New Roman"/>
              </a:rPr>
              <a:t>http://intsch.edu-kost.kz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8143920" cy="56851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85840" y="714240"/>
            <a:ext cx="47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ww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ci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kz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Завуч</cp:lastModifiedBy>
  <dcterms:modified xsi:type="dcterms:W3CDTF">2013-01-08T03:45:10Z</dcterms:modified>
  <cp:revision>88</cp:revision>
  <dc:subject>урок</dc:subject>
  <dc:title>Презентация</dc:title>
</cp:coreProperties>
</file>