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DE2B-6FF0-49F7-B56B-CD79FDF8E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7DBC-B992-489B-A0F5-236620BF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77FD-1049-457A-B801-E112FA0CD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06AF-13D2-4D80-B95E-C0B13B202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EB13-F66E-4920-9453-840DDF07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08AB-1139-4278-89E3-1AAB0F0C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22B9-5C7D-415D-B583-EA31C8AC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633A-F1CD-4C07-B367-19889ABB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F810-3DC2-4A32-A841-F0341568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5B74-0A2A-424F-9FB8-B97F1B89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7F45-D4E9-4587-859E-5478A372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07D3-D863-4495-9C9C-A41BC871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62E4-C1B8-4B6D-95CE-D20002059F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93840" y="142920"/>
            <a:ext cx="692136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ГУ «Средняя школа № 1 города Рудног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9720" y="1143000"/>
            <a:ext cx="728676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РГАНИЗАЦИЯ ОБРАЗОВАТЕЛЬНОГО ВЗАИМОДЕЙСТВИЯ МЕЖДУ ПЕДАГОГОМ И УЧАЩИМИ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1857240" y="2643120"/>
            <a:ext cx="555012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468360" y="5013360"/>
            <a:ext cx="82296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4"/>
          <p:cNvSpPr/>
          <p:nvPr/>
        </p:nvSpPr>
        <p:spPr>
          <a:xfrm>
            <a:off x="3214800" y="428760"/>
            <a:ext cx="5214960" cy="857160"/>
          </a:xfrm>
          <a:prstGeom prst="rect">
            <a:avLst/>
          </a:prstGeom>
          <a:solidFill>
            <a:srgbClr val="ffff99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нятийный аппа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5"/>
          <p:cNvSpPr/>
          <p:nvPr/>
        </p:nvSpPr>
        <p:spPr>
          <a:xfrm>
            <a:off x="214200" y="2500200"/>
            <a:ext cx="3714840" cy="714600"/>
          </a:xfrm>
          <a:prstGeom prst="rect">
            <a:avLst/>
          </a:prstGeom>
          <a:solidFill>
            <a:srgbClr val="ffff99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Взаимодейств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2"/>
          <p:cNvSpPr/>
          <p:nvPr/>
        </p:nvSpPr>
        <p:spPr>
          <a:xfrm>
            <a:off x="285840" y="4429080"/>
            <a:ext cx="3357360" cy="857160"/>
          </a:xfrm>
          <a:prstGeom prst="rect">
            <a:avLst/>
          </a:prstGeom>
          <a:solidFill>
            <a:srgbClr val="ffff99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едагогическое взаимодейств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21"/>
          <p:cNvSpPr/>
          <p:nvPr/>
        </p:nvSpPr>
        <p:spPr>
          <a:xfrm>
            <a:off x="4214880" y="1785960"/>
            <a:ext cx="4429080" cy="1500120"/>
          </a:xfrm>
          <a:prstGeom prst="rect">
            <a:avLst/>
          </a:prstGeom>
          <a:solidFill>
            <a:srgbClr val="ffff99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согласованная деятельность по достижению совместных целей и результатов, по решению участниками значимой для них проблемы или зада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2"/>
          <p:cNvSpPr/>
          <p:nvPr/>
        </p:nvSpPr>
        <p:spPr>
          <a:xfrm>
            <a:off x="4214880" y="3714840"/>
            <a:ext cx="4500360" cy="2000160"/>
          </a:xfrm>
          <a:prstGeom prst="rect">
            <a:avLst/>
          </a:prstGeom>
          <a:solidFill>
            <a:srgbClr val="ffff99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систематическое, постоянное осуществление коммуникативных действий учителя, имеющих целью вызвать соответствующую реакцию со стороны ученика, воздействовать на него: причём, вызванная реакция определяет в свою очередь новую реакцию взаимодействующ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1" descr=""/>
          <p:cNvPicPr/>
          <p:nvPr/>
        </p:nvPicPr>
        <p:blipFill>
          <a:blip r:embed="rId1"/>
          <a:stretch/>
        </p:blipFill>
        <p:spPr>
          <a:xfrm>
            <a:off x="285840" y="500040"/>
            <a:ext cx="26859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-714240"/>
            <a:ext cx="9144000" cy="7358040"/>
          </a:xfrm>
          <a:prstGeom prst="rect">
            <a:avLst/>
          </a:prstGeom>
          <a:solidFill>
            <a:srgbClr val="ffffcc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57120" y="-363600"/>
            <a:ext cx="84297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3600" spc="-1" strike="noStrike">
                <a:solidFill>
                  <a:srgbClr val="c00000"/>
                </a:solidFill>
                <a:latin typeface="Times New Roman"/>
              </a:rPr>
              <a:t>Формы педагогического воздейств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5"/>
          <p:cNvSpPr/>
          <p:nvPr/>
        </p:nvSpPr>
        <p:spPr>
          <a:xfrm>
            <a:off x="714240" y="4000680"/>
            <a:ext cx="2928960" cy="207144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активное (чаще всего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командное) и одностороннее педагогическое воздей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7"/>
          <p:cNvSpPr/>
          <p:nvPr/>
        </p:nvSpPr>
        <p:spPr>
          <a:xfrm>
            <a:off x="571680" y="357120"/>
            <a:ext cx="3000240" cy="71460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Arial"/>
              </a:rPr>
              <a:t>традиционная педагоги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5"/>
          <p:cNvSpPr/>
          <p:nvPr/>
        </p:nvSpPr>
        <p:spPr>
          <a:xfrm>
            <a:off x="4714920" y="3714840"/>
            <a:ext cx="4000320" cy="228600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совместная ценностная деятельность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искусное создание более корректных педагогических ситуаций развития. Взаимодействие всегда демократично и базируется на принятии индивидуальных интересов другой сторо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7"/>
          <p:cNvSpPr/>
          <p:nvPr/>
        </p:nvSpPr>
        <p:spPr>
          <a:xfrm>
            <a:off x="4714920" y="500040"/>
            <a:ext cx="3929040" cy="71424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Arial"/>
              </a:rPr>
              <a:t>современная педагоги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4" descr=""/>
          <p:cNvPicPr/>
          <p:nvPr/>
        </p:nvPicPr>
        <p:blipFill>
          <a:blip r:embed="rId1"/>
          <a:stretch/>
        </p:blipFill>
        <p:spPr>
          <a:xfrm>
            <a:off x="4714920" y="1143000"/>
            <a:ext cx="3978360" cy="2652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" descr=""/>
          <p:cNvPicPr/>
          <p:nvPr/>
        </p:nvPicPr>
        <p:blipFill>
          <a:blip r:embed="rId2"/>
          <a:stretch/>
        </p:blipFill>
        <p:spPr>
          <a:xfrm>
            <a:off x="642960" y="1071720"/>
            <a:ext cx="300024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2960" y="356760"/>
            <a:ext cx="785808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Позиция педагога при осуществлении субъект-субъектного взаимодействия предполагае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8"/>
          <p:cNvSpPr/>
          <p:nvPr/>
        </p:nvSpPr>
        <p:spPr>
          <a:xfrm>
            <a:off x="4929120" y="1143000"/>
            <a:ext cx="3929040" cy="1000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роявление ценностного отношения к личности учащего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0"/>
          <p:cNvSpPr/>
          <p:nvPr/>
        </p:nvSpPr>
        <p:spPr>
          <a:xfrm>
            <a:off x="4857840" y="4500720"/>
            <a:ext cx="4000320" cy="7855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Реализацию учителем новых педагогических функций (ролей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1"/>
          <p:cNvSpPr/>
          <p:nvPr/>
        </p:nvSpPr>
        <p:spPr>
          <a:xfrm>
            <a:off x="4929120" y="2143080"/>
            <a:ext cx="3929040" cy="2143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заинтересованная реакция учителя на предложения, пожелания, замечания (мнение) каждого уче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«считывание» учителем эмоционального состояния отдельных учеников и реагирование на нег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оценка действий учеников отделяется от личного отношения к нему педагог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акцентирование учителем важности мнения и участия каждого в урочной деятель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акцентирование внимания на позитивных личностных качествах учащихся, их поощ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3"/>
          <p:cNvSpPr/>
          <p:nvPr/>
        </p:nvSpPr>
        <p:spPr>
          <a:xfrm>
            <a:off x="4857840" y="5286240"/>
            <a:ext cx="400032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учитель как собеседни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учитель как человек, создающий условия для уч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учитель как исследовател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учитель как психотерапев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учитель как экспер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0" descr=""/>
          <p:cNvPicPr/>
          <p:nvPr/>
        </p:nvPicPr>
        <p:blipFill>
          <a:blip r:embed="rId1"/>
          <a:stretch/>
        </p:blipFill>
        <p:spPr>
          <a:xfrm>
            <a:off x="500040" y="1285920"/>
            <a:ext cx="3786120" cy="2494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"/>
          <p:cNvPicPr/>
          <p:nvPr/>
        </p:nvPicPr>
        <p:blipFill>
          <a:blip r:embed="rId2"/>
          <a:stretch/>
        </p:blipFill>
        <p:spPr>
          <a:xfrm>
            <a:off x="571680" y="4071960"/>
            <a:ext cx="38574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2960" y="356760"/>
            <a:ext cx="785808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Субъектная позиция ученика во взаимодействии с учителем предполаг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0"/>
          <p:cNvSpPr/>
          <p:nvPr/>
        </p:nvSpPr>
        <p:spPr>
          <a:xfrm>
            <a:off x="1500120" y="5643720"/>
            <a:ext cx="6143760" cy="8571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Готовность к выбору </a:t>
            </a: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как осознание ответственности за результаты и последствия своей деятельности, пове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2357280" y="2071800"/>
            <a:ext cx="5264280" cy="351000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8"/>
          <p:cNvSpPr/>
          <p:nvPr/>
        </p:nvSpPr>
        <p:spPr>
          <a:xfrm>
            <a:off x="142920" y="1214280"/>
            <a:ext cx="2857320" cy="2571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Самостоятельность - </a:t>
            </a: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способность к независимым действиям, решениям, проявлению собственной инициативы и в выборе целей, и в выборе способов их достижения; готовность и способность совершать какие-либо действия собственными сил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1"/>
          <p:cNvSpPr/>
          <p:nvPr/>
        </p:nvSpPr>
        <p:spPr>
          <a:xfrm>
            <a:off x="5214960" y="1000080"/>
            <a:ext cx="3714840" cy="1500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Активность </a:t>
            </a: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- стремление ученика выйти за собственные пределы, расширить сферу своей деятельности и общения, действовать за границами требований и ситуации и ролевых предписаний, предпочт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8"/>
          <p:cNvSpPr/>
          <p:nvPr/>
        </p:nvSpPr>
        <p:spPr>
          <a:xfrm>
            <a:off x="785880" y="428760"/>
            <a:ext cx="75009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Методы обуч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Spmo.gif"/>
          <p:cNvPicPr/>
          <p:nvPr/>
        </p:nvPicPr>
        <p:blipFill>
          <a:blip r:embed="rId1"/>
          <a:stretch/>
        </p:blipFill>
        <p:spPr>
          <a:xfrm>
            <a:off x="285840" y="1071720"/>
            <a:ext cx="4083120" cy="2658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Samo.gif"/>
          <p:cNvPicPr/>
          <p:nvPr/>
        </p:nvPicPr>
        <p:blipFill>
          <a:blip r:embed="rId2"/>
          <a:stretch/>
        </p:blipFill>
        <p:spPr>
          <a:xfrm>
            <a:off x="4643280" y="1071720"/>
            <a:ext cx="3735720" cy="2519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Simo.gif"/>
          <p:cNvPicPr/>
          <p:nvPr/>
        </p:nvPicPr>
        <p:blipFill>
          <a:blip r:embed="rId3"/>
          <a:stretch/>
        </p:blipFill>
        <p:spPr>
          <a:xfrm>
            <a:off x="2643120" y="3929040"/>
            <a:ext cx="400068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06:33:38Z</dcterms:created>
  <dc:creator>home</dc:creator>
  <dc:description/>
  <dc:language>en-US</dc:language>
  <cp:lastModifiedBy>Admin</cp:lastModifiedBy>
  <dcterms:modified xsi:type="dcterms:W3CDTF">2013-03-19T06:19:18Z</dcterms:modified>
  <cp:revision>118</cp:revision>
  <dc:subject/>
  <dc:title>Лист – боковая часть побега. Простые и сложные листья. Типы жилкования Листорасположение.</dc:title>
</cp:coreProperties>
</file>