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78F-3621-49C3-9E52-5B8D2815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E51-D08A-4775-A1CD-772FDA31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31F-1484-4988-AD65-216F350F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DA1-0FD1-4C98-BF70-2D24CC74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035-CE0D-4104-92AB-42BABBDA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1B9-1A70-4787-AAF4-CE5BBBD9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23D-94FF-41F3-B6E8-8CEF0225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67B-9D39-4FEE-9413-8480A02A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B2B-DE12-4F7D-A623-FFD92D80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AB6-99FA-4D67-B6A2-35E111D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5F3-4F8A-4692-9A30-D2E409F6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112-3DDD-4903-ACA4-8E5E77E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D568-42AB-4E38-AC13-38072E6AF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3840" y="142920"/>
            <a:ext cx="69213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У «Средняя школа № 1 города Рудн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9720" y="114300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РГАНИЗАЦИЯ ОБРАЗОВАТЕЛЬНОГО ВЗАИМОДЕЙСТВИЯ МЕЖДУ ПЕДАГОГОМ И УЧА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550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68360" y="501336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3214800" y="428760"/>
            <a:ext cx="521496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йный ап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214200" y="2500200"/>
            <a:ext cx="3714840" cy="714600"/>
          </a:xfrm>
          <a:prstGeom prst="rect">
            <a:avLst/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заимодей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285840" y="4429080"/>
            <a:ext cx="335736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дагогическое взаимодей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1"/>
          <p:cNvSpPr/>
          <p:nvPr/>
        </p:nvSpPr>
        <p:spPr>
          <a:xfrm>
            <a:off x="4214880" y="1785960"/>
            <a:ext cx="4429080" cy="150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согласованная деятельность по достижению совместных целей и результатов, по решению участниками значимой для них проблемы или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2"/>
          <p:cNvSpPr/>
          <p:nvPr/>
        </p:nvSpPr>
        <p:spPr>
          <a:xfrm>
            <a:off x="4214880" y="3714840"/>
            <a:ext cx="4500360" cy="20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систематическое, постоянное осуществление коммуникативных действий учителя, имеющих целью вызвать соответствующую реакцию со стороны ученика, воздействовать на него: причём, вызванная реакция определяет в свою очередь новую реакцию взаимодействую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2685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-714240"/>
            <a:ext cx="9144000" cy="7358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57120" y="-36360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Формы педагогического воз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714240" y="4000680"/>
            <a:ext cx="292896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активное (чаще всего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мандное) и одностороннее педагогическое во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571680" y="357120"/>
            <a:ext cx="3000240" cy="7146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традиционная педагог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4714920" y="3714840"/>
            <a:ext cx="4000320" cy="22860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совместная ценностная деятельност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искусное создание более корректных педагогических ситуаций развития. Взаимодействие всегда демократично и базируется на принятии индивидуальных интересов другой 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4714920" y="500040"/>
            <a:ext cx="3929040" cy="7142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Arial"/>
              </a:rPr>
              <a:t>современная педагог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3978360" cy="2652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42960" y="1071720"/>
            <a:ext cx="30002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зиция педагога при осуществлении субъект-субъектного взаимодействия предполага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4929120" y="1143000"/>
            <a:ext cx="392904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явление ценностного отношения к личности уча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4857840" y="4500720"/>
            <a:ext cx="400032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еализацию учителем новых педагогических функций (рол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4929120" y="2143080"/>
            <a:ext cx="3929040" cy="21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заинтересованная реакция учителя на предложения, пожелания, замечания (мнение) каждого уче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«считывание» учителем эмоционального состояния отдельных учеников и реагирование на н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оценка действий учеников отделяется от личного отношения к нему педаго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акцентирование учителем важности мнения и участия каждого в урочно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акцентирование внимания на позитивных личностных качествах учащихся, их поощ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4857840" y="5286240"/>
            <a:ext cx="400032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учитель как собеседни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учитель как человек, создающий условия для 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учитель как исследовате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учитель как психотерапев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учитель как экспе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3786120" cy="2494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"/>
          <a:stretch/>
        </p:blipFill>
        <p:spPr>
          <a:xfrm>
            <a:off x="571680" y="40719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убъектная позиция ученика во взаимодействии с учителем предпола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1500120" y="5643720"/>
            <a:ext cx="6143760" cy="857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отовность к выбору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как осознание ответственности за результаты и последствия своей деятельности,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5264280" cy="3510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8"/>
          <p:cNvSpPr/>
          <p:nvPr/>
        </p:nvSpPr>
        <p:spPr>
          <a:xfrm>
            <a:off x="142920" y="1214280"/>
            <a:ext cx="2857320" cy="2571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амостоятельность -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способность к независимым действиям, решениям, проявлению собственной инициативы и в выборе целей, и в выборе способов их достижения; готовность и способность совершать какие-либо действия собственными си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5214960" y="1000080"/>
            <a:ext cx="371484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ктивность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- стремление ученика выйти за собственные пределы, расширить сферу своей деятельности и общения, действовать за границами требований и ситуации и ролевых предписаний, предпочт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785880" y="428760"/>
            <a:ext cx="7500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Методы обу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Spmo.gif"/>
          <p:cNvPicPr/>
          <p:nvPr/>
        </p:nvPicPr>
        <p:blipFill>
          <a:blip r:embed="rId1"/>
          <a:stretch/>
        </p:blipFill>
        <p:spPr>
          <a:xfrm>
            <a:off x="285840" y="1071720"/>
            <a:ext cx="4083120" cy="2658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Samo.gif"/>
          <p:cNvPicPr/>
          <p:nvPr/>
        </p:nvPicPr>
        <p:blipFill>
          <a:blip r:embed="rId2"/>
          <a:stretch/>
        </p:blipFill>
        <p:spPr>
          <a:xfrm>
            <a:off x="4643280" y="1071720"/>
            <a:ext cx="3735720" cy="251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imo.gif"/>
          <p:cNvPicPr/>
          <p:nvPr/>
        </p:nvPicPr>
        <p:blipFill>
          <a:blip r:embed="rId3"/>
          <a:stretch/>
        </p:blipFill>
        <p:spPr>
          <a:xfrm>
            <a:off x="2643120" y="3929040"/>
            <a:ext cx="40006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6:33:38Z</dcterms:created>
  <dc:creator>home</dc:creator>
  <dc:description/>
  <dc:language>en-US</dc:language>
  <cp:lastModifiedBy>Admin</cp:lastModifiedBy>
  <dcterms:modified xsi:type="dcterms:W3CDTF">2013-03-19T06:19:18Z</dcterms:modified>
  <cp:revision>118</cp:revision>
  <dc:subject/>
  <dc:title>Лист – боковая часть побега. Простые и сложные листья. Типы жилкования Листорасположение.</dc:title>
</cp:coreProperties>
</file>